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46"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move the slide</a:t>
            </a:r>
            <a:endParaRPr b="1" lang="en-US" sz="3600" spc="-1" strike="noStrike">
              <a:solidFill>
                <a:srgbClr val="005ca7"/>
              </a:solidFill>
              <a:latin typeface="Arial"/>
            </a:endParaRPr>
          </a:p>
        </p:txBody>
      </p:sp>
      <p:sp>
        <p:nvSpPr>
          <p:cNvPr id="44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9"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50"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B977-FAB0-45C0-8817-954190329E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1160" y="696960"/>
            <a:ext cx="4648320" cy="3486240"/>
          </a:xfrm>
          <a:prstGeom prst="rect">
            <a:avLst/>
          </a:prstGeom>
          <a:ln w="0">
            <a:noFill/>
          </a:ln>
        </p:spPr>
      </p:sp>
      <p:sp>
        <p:nvSpPr>
          <p:cNvPr id="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07AA-6706-4EB0-BDB1-55C63755D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0907-FCA4-4CFB-9DD8-0369263A1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1160" y="696960"/>
            <a:ext cx="4648320" cy="3486240"/>
          </a:xfrm>
          <a:prstGeom prst="rect">
            <a:avLst/>
          </a:prstGeom>
          <a:ln w="0">
            <a:noFill/>
          </a:ln>
        </p:spPr>
      </p:sp>
      <p:sp>
        <p:nvSpPr>
          <p:cNvPr id="5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0027-9110-4BFF-B489-A0E48E3F5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08DD-53A5-45C5-8B67-509194611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ADE8-D7C2-44F9-9D93-A120411D4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7BF8-F469-484E-866D-B5B0D2AAC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1107-1CCB-499D-B324-28BFD4F71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BB47-838B-4CCF-A665-926075C38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45C9-469B-456B-A632-88C5C662F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BB37-FBFF-418C-96F4-9C54EC2BA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5886-2CFF-4E4C-B2A3-A7A9F86F3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EFC1-F7F1-4A2E-A3BF-C8883FC7C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A978-94D1-46EE-BC48-AB7B4CEFD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0276-83CB-4F5E-9513-A3B967C8B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EDD4-AAD2-4EB7-90BA-08A461B3D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FD17-5257-4538-9BF1-4086C514C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994B-FE3A-4C95-800C-E97898545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125C-C7EB-415A-B748-106784882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B3BE-B98A-4F95-9AF8-71FE26E6F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778A-3844-417F-8B8B-48E47CE66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FDC4-1414-4AB2-8C35-05FDBB66A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A2D4-D32B-488A-B03C-E0E8E601F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8320" cy="3486240"/>
          </a:xfrm>
          <a:prstGeom prst="rect">
            <a:avLst/>
          </a:prstGeom>
          <a:ln w="0">
            <a:noFill/>
          </a:ln>
        </p:spPr>
      </p:sp>
      <p:sp>
        <p:nvSpPr>
          <p:cNvPr id="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BD18-181E-4E1C-B054-9948D1EEA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AFFD-18EC-44AC-B567-21831DA87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F1CA-85BD-4573-BD06-2D129540C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8562-A5E4-4DD3-9F73-ED6CB97DD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1160" y="696960"/>
            <a:ext cx="4648320" cy="3486240"/>
          </a:xfrm>
          <a:prstGeom prst="rect">
            <a:avLst/>
          </a:prstGeom>
          <a:ln w="0">
            <a:noFill/>
          </a:ln>
        </p:spPr>
      </p:sp>
      <p:sp>
        <p:nvSpPr>
          <p:cNvPr id="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5F9F-650A-459B-AEE8-CA6DF9E5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5ACE-CC54-4BF9-9D05-E5C4FC67B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8320" cy="3486240"/>
          </a:xfrm>
          <a:prstGeom prst="rect">
            <a:avLst/>
          </a:prstGeom>
          <a:ln w="0">
            <a:noFill/>
          </a:ln>
        </p:spPr>
      </p:sp>
      <p:sp>
        <p:nvSpPr>
          <p:cNvPr id="5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4241-79B3-4A75-A0AC-6BD5BD5FA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13A1-A5F1-4F1A-9092-5B32F1A3D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1160" y="696960"/>
            <a:ext cx="4648320" cy="348624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9E2B-8FF5-49F8-85F6-D2C3CF8CD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6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8"/>
          </p:nvPr>
        </p:nvSpPr>
        <p:spPr/>
        <p:txBody>
          <a:bodyPr/>
          <a:p>
            <a:fld id="{D55BA53A-7038-4607-B649-D3D6B6C49A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8"/>
          </p:nvPr>
        </p:nvSpPr>
        <p:spPr/>
        <p:txBody>
          <a:bodyPr/>
          <a:p>
            <a:fld id="{06E36AEE-F158-499A-BDF1-FEE8417498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8"/>
          </p:nvPr>
        </p:nvSpPr>
        <p:spPr/>
        <p:txBody>
          <a:bodyPr/>
          <a:p>
            <a:fld id="{45B6F684-25BB-470A-B193-984CB71959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7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3E0A9914-F030-4674-8CAB-D7E6457DC3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7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2A185923-E4FA-4F14-B6D3-9E674E4FD9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0E4C8226-62EB-4351-AFB2-A178CB4BED1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8"/>
          </p:nvPr>
        </p:nvSpPr>
        <p:spPr/>
        <p:txBody>
          <a:bodyPr/>
          <a:p>
            <a:fld id="{87304DE9-05EE-425E-ACF0-B60B99736B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8"/>
          </p:nvPr>
        </p:nvSpPr>
        <p:spPr/>
        <p:txBody>
          <a:bodyPr/>
          <a:p>
            <a:fld id="{4364BA74-CBA8-498A-80D5-FDB151E4A6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9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8"/>
          </p:nvPr>
        </p:nvSpPr>
        <p:spPr/>
        <p:txBody>
          <a:bodyPr/>
          <a:p>
            <a:fld id="{0C48CBA8-25A5-43C4-88D6-33832497E76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468CCD3-2011-4D04-A1F7-082C885C9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0"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1"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0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9"/>
          </p:nvPr>
        </p:nvSpPr>
        <p:spPr/>
        <p:txBody>
          <a:bodyPr/>
          <a:p>
            <a:fld id="{3949F396-AEF7-4AC2-ACB5-414B32F89A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9"/>
          </p:nvPr>
        </p:nvSpPr>
        <p:spPr/>
        <p:txBody>
          <a:bodyPr/>
          <a:p>
            <a:fld id="{FA05B052-11E7-4201-97C8-35F6AB0D90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1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9"/>
          </p:nvPr>
        </p:nvSpPr>
        <p:spPr/>
        <p:txBody>
          <a:bodyPr/>
          <a:p>
            <a:fld id="{A2185F1D-72BD-4372-B53E-191D745396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9"/>
          </p:nvPr>
        </p:nvSpPr>
        <p:spPr/>
        <p:txBody>
          <a:bodyPr/>
          <a:p>
            <a:fld id="{96050A4D-7A72-43FB-896C-187A0B9521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9"/>
          </p:nvPr>
        </p:nvSpPr>
        <p:spPr/>
        <p:txBody>
          <a:bodyPr/>
          <a:p>
            <a:fld id="{70A8E58D-00AE-4F1F-A7CB-6ACC953AA3E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1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42399CFB-A899-4D0B-A7CD-3F997E6268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2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501FAB91-1E90-4851-91DD-8FECDD3B4A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2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33266F92-61B4-4C4A-AC6F-7F290E2536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9"/>
          </p:nvPr>
        </p:nvSpPr>
        <p:spPr/>
        <p:txBody>
          <a:bodyPr/>
          <a:p>
            <a:fld id="{765E42C9-A68D-4AEA-9B58-D2191E8F0E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9"/>
          </p:nvPr>
        </p:nvSpPr>
        <p:spPr/>
        <p:txBody>
          <a:bodyPr/>
          <a:p>
            <a:fld id="{CD1ECBBA-351A-4651-A174-AF42F0513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5"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6"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0"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9"/>
          </p:nvPr>
        </p:nvSpPr>
        <p:spPr/>
        <p:txBody>
          <a:bodyPr/>
          <a:p>
            <a:fld id="{E26C2713-86DC-4588-82C2-B1926548EC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AE28E-7942-4D9B-A374-73D45110CD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1"/>
          </p:nvPr>
        </p:nvSpPr>
        <p:spPr/>
        <p:txBody>
          <a:bodyPr/>
          <a:p>
            <a:fld id="{81266B71-5C15-46CB-A472-69672309EC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1"/>
          </p:nvPr>
        </p:nvSpPr>
        <p:spPr/>
        <p:txBody>
          <a:bodyPr/>
          <a:p>
            <a:fld id="{517FA68E-03E6-44E8-BE31-FF054E80BC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1"/>
          </p:nvPr>
        </p:nvSpPr>
        <p:spPr/>
        <p:txBody>
          <a:bodyPr/>
          <a:p>
            <a:fld id="{D3AEA2AF-4242-4BDA-90A3-22EEE34DF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1"/>
          </p:nvPr>
        </p:nvSpPr>
        <p:spPr/>
        <p:txBody>
          <a:bodyPr/>
          <a:p>
            <a:fld id="{2455D65A-D1F7-443D-83DE-259F722C48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1"/>
          </p:nvPr>
        </p:nvSpPr>
        <p:spPr/>
        <p:txBody>
          <a:bodyPr/>
          <a:p>
            <a:fld id="{046059F7-E5A1-4049-86B5-EFA67D241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3D77F6DF-1C82-4DBB-BAF8-1D5646ED7E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18D09CB3-E3AB-42EF-AE70-D367D9C159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ABD90AC6-1833-42C3-8AF3-46C9FEDFDD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1"/>
          </p:nvPr>
        </p:nvSpPr>
        <p:spPr/>
        <p:txBody>
          <a:bodyPr/>
          <a:p>
            <a:fld id="{6AE4BA94-FCF2-470D-8312-0CDB60FED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1"/>
          </p:nvPr>
        </p:nvSpPr>
        <p:spPr/>
        <p:txBody>
          <a:bodyPr/>
          <a:p>
            <a:fld id="{0EBFE22F-8CB2-44B5-9256-3A9573C694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1"/>
          </p:nvPr>
        </p:nvSpPr>
        <p:spPr/>
        <p:txBody>
          <a:bodyPr/>
          <a:p>
            <a:fld id="{9599FB01-1B41-4EDC-98B1-E4A529D65D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72C2A-550E-46B9-9777-4268EFB60D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2"/>
          </p:nvPr>
        </p:nvSpPr>
        <p:spPr/>
        <p:txBody>
          <a:bodyPr/>
          <a:p>
            <a:fld id="{9E017AFB-BFC9-4AF1-8286-CED00CA297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2"/>
          </p:nvPr>
        </p:nvSpPr>
        <p:spPr/>
        <p:txBody>
          <a:bodyPr/>
          <a:p>
            <a:fld id="{EBEA2C6C-645D-4583-AAB9-2951B1BB0E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2"/>
          </p:nvPr>
        </p:nvSpPr>
        <p:spPr/>
        <p:txBody>
          <a:bodyPr/>
          <a:p>
            <a:fld id="{C31B8E40-2E53-4A24-B66D-8FAC92F276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2"/>
          </p:nvPr>
        </p:nvSpPr>
        <p:spPr/>
        <p:txBody>
          <a:bodyPr/>
          <a:p>
            <a:fld id="{459AC5A6-52D0-4CAB-B0DB-11F6B416E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8"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2"/>
          </p:nvPr>
        </p:nvSpPr>
        <p:spPr/>
        <p:txBody>
          <a:bodyPr/>
          <a:p>
            <a:fld id="{0B5CC663-46F7-4130-B780-6906B1C9D3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3CA0FEAE-670F-4603-B3DA-92A78F5F1C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9534CDC2-CF63-419B-9BBB-12326FFEE8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42D599FE-D063-4DAA-B59A-8B4A61CE51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2"/>
          </p:nvPr>
        </p:nvSpPr>
        <p:spPr/>
        <p:txBody>
          <a:bodyPr/>
          <a:p>
            <a:fld id="{1B88FD75-75B0-4D93-ABC5-BCD840BB64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2"/>
          </p:nvPr>
        </p:nvSpPr>
        <p:spPr/>
        <p:txBody>
          <a:bodyPr/>
          <a:p>
            <a:fld id="{5DF46272-3720-4941-8E18-2636F35C93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2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2"/>
          </p:nvPr>
        </p:nvSpPr>
        <p:spPr/>
        <p:txBody>
          <a:bodyPr/>
          <a:p>
            <a:fld id="{A28AF7F2-9CD2-4F49-BD21-59476F8176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7E5578-93F3-408F-986F-406798A719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3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3"/>
          </p:nvPr>
        </p:nvSpPr>
        <p:spPr/>
        <p:txBody>
          <a:bodyPr/>
          <a:p>
            <a:fld id="{C8DD823D-614C-4169-8FE1-D4BB430CEE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3"/>
          </p:nvPr>
        </p:nvSpPr>
        <p:spPr/>
        <p:txBody>
          <a:bodyPr/>
          <a:p>
            <a:fld id="{19D45D30-493C-445C-8169-AF4979B4A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4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3"/>
          </p:nvPr>
        </p:nvSpPr>
        <p:spPr/>
        <p:txBody>
          <a:bodyPr/>
          <a:p>
            <a:fld id="{19E3E488-60D2-4CEC-9BCB-E48C69D997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3"/>
          </p:nvPr>
        </p:nvSpPr>
        <p:spPr/>
        <p:txBody>
          <a:bodyPr/>
          <a:p>
            <a:fld id="{D7E4D727-BDE5-4AFC-9FE5-D6CD215FB9E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3"/>
          </p:nvPr>
        </p:nvSpPr>
        <p:spPr/>
        <p:txBody>
          <a:bodyPr/>
          <a:p>
            <a:fld id="{A4A1860C-3AB4-470E-BCAB-A1191526587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4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81AB4398-99C9-4C8A-A5EF-0071B2CDC3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10C99792-2BF7-4347-AD27-FD75F10880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2AB6AE25-40C7-4F03-B6BA-0965BCF374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3"/>
          </p:nvPr>
        </p:nvSpPr>
        <p:spPr/>
        <p:txBody>
          <a:bodyPr/>
          <a:p>
            <a:fld id="{ADA7D065-F911-4A70-AEAF-5C08C46D07C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3"/>
          </p:nvPr>
        </p:nvSpPr>
        <p:spPr/>
        <p:txBody>
          <a:bodyPr/>
          <a:p>
            <a:fld id="{AD0AA167-0196-460C-9D4D-928B86225D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3"/>
          </p:nvPr>
        </p:nvSpPr>
        <p:spPr/>
        <p:txBody>
          <a:bodyPr/>
          <a:p>
            <a:fld id="{28AA194F-49E5-402E-9CB2-22D611D558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22A6C-6529-429B-A2B8-255542A68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4"/>
          </p:nvPr>
        </p:nvSpPr>
        <p:spPr/>
        <p:txBody>
          <a:bodyPr/>
          <a:p>
            <a:fld id="{9532FE85-AD9A-4B58-915F-3229491471A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4"/>
          </p:nvPr>
        </p:nvSpPr>
        <p:spPr/>
        <p:txBody>
          <a:bodyPr/>
          <a:p>
            <a:fld id="{11CAA52C-9C80-4CC2-9AE1-3576CCC91E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8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4"/>
          </p:nvPr>
        </p:nvSpPr>
        <p:spPr/>
        <p:txBody>
          <a:bodyPr/>
          <a:p>
            <a:fld id="{6A19B3CE-DE41-43C9-A0E7-767BBEE737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4"/>
          </p:nvPr>
        </p:nvSpPr>
        <p:spPr/>
        <p:txBody>
          <a:bodyPr/>
          <a:p>
            <a:fld id="{4B9FEAD8-A47F-4416-833F-9070CE4F6E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4"/>
          </p:nvPr>
        </p:nvSpPr>
        <p:spPr/>
        <p:txBody>
          <a:bodyPr/>
          <a:p>
            <a:fld id="{F95C29D0-2A91-46D5-83A6-ADE0069C0C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7340DD04-2205-4E4D-B631-13299C77B9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EDB6BB86-92F2-449C-987B-0D5651E63DA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DBC35C1F-5D70-4B26-9736-FD2FC23AC5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4"/>
          </p:nvPr>
        </p:nvSpPr>
        <p:spPr/>
        <p:txBody>
          <a:bodyPr/>
          <a:p>
            <a:fld id="{C9D14B32-73F1-4722-943B-BB7DD42E22D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4"/>
          </p:nvPr>
        </p:nvSpPr>
        <p:spPr/>
        <p:txBody>
          <a:bodyPr/>
          <a:p>
            <a:fld id="{75B87414-38F9-40D9-9F4B-874BB78DA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1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4"/>
          </p:nvPr>
        </p:nvSpPr>
        <p:spPr/>
        <p:txBody>
          <a:bodyPr/>
          <a:p>
            <a:fld id="{8C3C6203-EACE-432D-B912-ECBFBE7D87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2FBB36-42C5-40D5-9A01-93EF13C25C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2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5"/>
          </p:nvPr>
        </p:nvSpPr>
        <p:spPr/>
        <p:txBody>
          <a:bodyPr/>
          <a:p>
            <a:fld id="{45F69037-C449-4862-9DDC-E9106A8965A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5"/>
          </p:nvPr>
        </p:nvSpPr>
        <p:spPr/>
        <p:txBody>
          <a:bodyPr/>
          <a:p>
            <a:fld id="{D485D333-A527-4BCE-A217-AC6CDAED388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3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5"/>
          </p:nvPr>
        </p:nvSpPr>
        <p:spPr/>
        <p:txBody>
          <a:bodyPr/>
          <a:p>
            <a:fld id="{5155128E-0144-410D-89C0-C4EC4C877D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5"/>
          </p:nvPr>
        </p:nvSpPr>
        <p:spPr/>
        <p:txBody>
          <a:bodyPr/>
          <a:p>
            <a:fld id="{F6FC5DE6-8C7F-4396-8F20-133F0219FB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5"/>
          </p:nvPr>
        </p:nvSpPr>
        <p:spPr/>
        <p:txBody>
          <a:bodyPr/>
          <a:p>
            <a:fld id="{87420B53-1E90-441B-BF59-F32058884F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3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51D344C4-0639-487F-895A-3A1779AD8D3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4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7C98B3BF-6916-4386-ACDE-D8CC9A0BC0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4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BE4033F9-7D91-43D5-B37D-96625DF18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5"/>
          </p:nvPr>
        </p:nvSpPr>
        <p:spPr/>
        <p:txBody>
          <a:bodyPr/>
          <a:p>
            <a:fld id="{777D2FF3-502E-417E-8364-14D7D48005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5"/>
          </p:nvPr>
        </p:nvSpPr>
        <p:spPr/>
        <p:txBody>
          <a:bodyPr/>
          <a:p>
            <a:fld id="{6306DFF0-9991-4618-802F-01E1B218A8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5"/>
          </p:nvPr>
        </p:nvSpPr>
        <p:spPr/>
        <p:txBody>
          <a:bodyPr/>
          <a:p>
            <a:fld id="{96BC3382-EDB8-4283-B44B-D44E0EEF6B2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2E8D09-18AF-4DEB-90EA-45AEA949B7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6"/>
          </p:nvPr>
        </p:nvSpPr>
        <p:spPr/>
        <p:txBody>
          <a:bodyPr/>
          <a:p>
            <a:fld id="{D323C197-74B2-477F-B254-D6252946EC5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6"/>
          </p:nvPr>
        </p:nvSpPr>
        <p:spPr/>
        <p:txBody>
          <a:bodyPr/>
          <a:p>
            <a:fld id="{7098289E-1D4D-4CB6-82F7-980CC1E64A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7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6"/>
          </p:nvPr>
        </p:nvSpPr>
        <p:spPr/>
        <p:txBody>
          <a:bodyPr/>
          <a:p>
            <a:fld id="{1EF16450-AC0F-4767-A01E-EEDCDF4E2F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6"/>
          </p:nvPr>
        </p:nvSpPr>
        <p:spPr/>
        <p:txBody>
          <a:bodyPr/>
          <a:p>
            <a:fld id="{315E01AB-8449-4896-BB55-98BB063EFFF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6"/>
          </p:nvPr>
        </p:nvSpPr>
        <p:spPr/>
        <p:txBody>
          <a:bodyPr/>
          <a:p>
            <a:fld id="{BEA42D30-3083-4BF8-867B-E37DD36C28F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8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EA2E0DE5-053B-412E-837B-F19EB3BDB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8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4ECB7ACB-C3F8-4340-B364-0F92C016093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7E5856D9-1FE2-4C93-8825-EEF86FD878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6"/>
          </p:nvPr>
        </p:nvSpPr>
        <p:spPr/>
        <p:txBody>
          <a:bodyPr/>
          <a:p>
            <a:fld id="{4CC4EF1A-C68C-4686-A9D7-8BEEDC9F96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6"/>
          </p:nvPr>
        </p:nvSpPr>
        <p:spPr/>
        <p:txBody>
          <a:bodyPr/>
          <a:p>
            <a:fld id="{A373B048-6212-476B-9AC1-3B62E4CCC25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0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6"/>
          </p:nvPr>
        </p:nvSpPr>
        <p:spPr/>
        <p:txBody>
          <a:bodyPr/>
          <a:p>
            <a:fld id="{13B665FA-C665-4683-9AC3-2C7CD34CA9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5191503-5720-497C-96ED-0FD21813F1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1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7"/>
          </p:nvPr>
        </p:nvSpPr>
        <p:spPr/>
        <p:txBody>
          <a:bodyPr/>
          <a:p>
            <a:fld id="{DF582139-6DB0-42F1-9CD9-E739569F09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7"/>
          </p:nvPr>
        </p:nvSpPr>
        <p:spPr/>
        <p:txBody>
          <a:bodyPr/>
          <a:p>
            <a:fld id="{1DB6F146-5730-4263-B21B-B861B53E21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7"/>
          </p:nvPr>
        </p:nvSpPr>
        <p:spPr/>
        <p:txBody>
          <a:bodyPr/>
          <a:p>
            <a:fld id="{F018E8AD-8831-414C-A3EF-B88A197062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7"/>
          </p:nvPr>
        </p:nvSpPr>
        <p:spPr/>
        <p:txBody>
          <a:bodyPr/>
          <a:p>
            <a:fld id="{4A0B00E4-9AE4-4C44-AC45-BBBB1A7BE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7"/>
          </p:nvPr>
        </p:nvSpPr>
        <p:spPr/>
        <p:txBody>
          <a:bodyPr/>
          <a:p>
            <a:fld id="{BAB16F84-8E39-4650-A6E3-4334B066F3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13A9310C-6E2D-4C5C-A0EE-27F79B8F3B7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3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BCCA885D-010A-4360-9548-B8866820501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3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AF6518F7-E20E-49B6-9E7B-1F79C9C6FEA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7"/>
          </p:nvPr>
        </p:nvSpPr>
        <p:spPr/>
        <p:txBody>
          <a:bodyPr/>
          <a:p>
            <a:fld id="{C471A1B3-EE39-471F-9C33-BDC70185CB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7"/>
          </p:nvPr>
        </p:nvSpPr>
        <p:spPr/>
        <p:txBody>
          <a:bodyPr/>
          <a:p>
            <a:fld id="{EFACB4DD-1CD4-4EA0-94C7-E31655F4CF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7"/>
          </p:nvPr>
        </p:nvSpPr>
        <p:spPr/>
        <p:txBody>
          <a:bodyPr/>
          <a:p>
            <a:fld id="{8E588E01-3C59-412D-A7C7-D40C5A5F60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1B8A74-8B59-4022-B4AF-6FACBF53FA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8"/>
          </p:nvPr>
        </p:nvSpPr>
        <p:spPr/>
        <p:txBody>
          <a:bodyPr/>
          <a:p>
            <a:fld id="{B4267018-179F-4702-8567-8E4166375F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8"/>
          </p:nvPr>
        </p:nvSpPr>
        <p:spPr/>
        <p:txBody>
          <a:bodyPr/>
          <a:p>
            <a:fld id="{4BC10A2D-9D69-4684-A11E-619A20177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nlc_bkgd2.png"/>
          <p:cNvPicPr/>
          <p:nvPr/>
        </p:nvPicPr>
        <p:blipFill>
          <a:blip r:embed="rId2"/>
          <a:stretch/>
        </p:blipFill>
        <p:spPr>
          <a:xfrm>
            <a:off x="0" y="0"/>
            <a:ext cx="9144000" cy="3992400"/>
          </a:xfrm>
          <a:prstGeom prst="rect">
            <a:avLst/>
          </a:prstGeom>
          <a:ln w="0">
            <a:noFill/>
          </a:ln>
        </p:spPr>
      </p:pic>
      <p:pic>
        <p:nvPicPr>
          <p:cNvPr id="1"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3" descr="nlc_bkgd2.png"/>
          <p:cNvPicPr/>
          <p:nvPr/>
        </p:nvPicPr>
        <p:blipFill>
          <a:blip r:embed="rId2"/>
          <a:stretch/>
        </p:blipFill>
        <p:spPr>
          <a:xfrm>
            <a:off x="0" y="0"/>
            <a:ext cx="9144000" cy="3992400"/>
          </a:xfrm>
          <a:prstGeom prst="rect">
            <a:avLst/>
          </a:prstGeom>
          <a:ln w="0">
            <a:noFill/>
          </a:ln>
        </p:spPr>
      </p:pic>
      <p:pic>
        <p:nvPicPr>
          <p:cNvPr id="40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40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402" name="Group 12"/>
          <p:cNvGrpSpPr/>
          <p:nvPr/>
        </p:nvGrpSpPr>
        <p:grpSpPr>
          <a:xfrm>
            <a:off x="6172200" y="6019920"/>
            <a:ext cx="2222640" cy="457200"/>
            <a:chOff x="6172200" y="6019920"/>
            <a:chExt cx="2222640" cy="457200"/>
          </a:xfrm>
        </p:grpSpPr>
        <p:pic>
          <p:nvPicPr>
            <p:cNvPr id="403" name="Picture 13" descr="HEAL1002_NLC_H_Logo_RGB.png"/>
            <p:cNvPicPr/>
            <p:nvPr/>
          </p:nvPicPr>
          <p:blipFill>
            <a:blip r:embed="rId4"/>
            <a:stretch/>
          </p:blipFill>
          <p:spPr>
            <a:xfrm>
              <a:off x="6172200" y="6019920"/>
              <a:ext cx="2222640" cy="318240"/>
            </a:xfrm>
            <a:prstGeom prst="rect">
              <a:avLst/>
            </a:prstGeom>
            <a:ln w="0">
              <a:noFill/>
            </a:ln>
          </p:spPr>
        </p:pic>
        <p:sp>
          <p:nvSpPr>
            <p:cNvPr id="404" name="TextBox 14"/>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0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40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07" name="PlaceHolder 3"/>
          <p:cNvSpPr>
            <a:spLocks noGrp="1"/>
          </p:cNvSpPr>
          <p:nvPr>
            <p:ph type="sldNum" idx="9"/>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9406-65E8-41F1-9D62-586C81DD6D2E}"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nlc_bkgd2.png"/>
          <p:cNvPicPr/>
          <p:nvPr/>
        </p:nvPicPr>
        <p:blipFill>
          <a:blip r:embed="rId2"/>
          <a:stretch/>
        </p:blipFill>
        <p:spPr>
          <a:xfrm>
            <a:off x="0" y="0"/>
            <a:ext cx="9144000" cy="3992400"/>
          </a:xfrm>
          <a:prstGeom prst="rect">
            <a:avLst/>
          </a:prstGeom>
          <a:ln w="0">
            <a:noFill/>
          </a:ln>
        </p:spPr>
      </p:pic>
      <p:pic>
        <p:nvPicPr>
          <p:cNvPr id="42"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43"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pic>
        <p:nvPicPr>
          <p:cNvPr id="44" name="Picture 5" descr="HEAL1002_NLC_H_Logo+URL+Tag_RGB.png"/>
          <p:cNvPicPr/>
          <p:nvPr/>
        </p:nvPicPr>
        <p:blipFill>
          <a:blip r:embed="rId4"/>
          <a:stretch/>
        </p:blipFill>
        <p:spPr>
          <a:xfrm>
            <a:off x="4038480" y="4343400"/>
            <a:ext cx="4613400" cy="833400"/>
          </a:xfrm>
          <a:prstGeom prst="rect">
            <a:avLst/>
          </a:prstGeom>
          <a:ln w="0">
            <a:noFill/>
          </a:ln>
        </p:spPr>
      </p:pic>
      <p:sp>
        <p:nvSpPr>
          <p:cNvPr id="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4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7" name="PlaceHolder 3"/>
          <p:cNvSpPr>
            <a:spLocks noGrp="1"/>
          </p:cNvSpPr>
          <p:nvPr>
            <p:ph type="sldNum" idx="1"/>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B3AC-A741-426A-A44F-6C7C65147E8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nlc_bkgd2.png"/>
          <p:cNvPicPr/>
          <p:nvPr/>
        </p:nvPicPr>
        <p:blipFill>
          <a:blip r:embed="rId2"/>
          <a:stretch/>
        </p:blipFill>
        <p:spPr>
          <a:xfrm>
            <a:off x="0" y="0"/>
            <a:ext cx="9144000" cy="3992400"/>
          </a:xfrm>
          <a:prstGeom prst="rect">
            <a:avLst/>
          </a:prstGeom>
          <a:ln w="0">
            <a:noFill/>
          </a:ln>
        </p:spPr>
      </p:pic>
      <p:pic>
        <p:nvPicPr>
          <p:cNvPr id="8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8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87" name="Group 20"/>
          <p:cNvGrpSpPr/>
          <p:nvPr/>
        </p:nvGrpSpPr>
        <p:grpSpPr>
          <a:xfrm>
            <a:off x="6172200" y="6019920"/>
            <a:ext cx="2222640" cy="457200"/>
            <a:chOff x="6172200" y="6019920"/>
            <a:chExt cx="2222640" cy="457200"/>
          </a:xfrm>
        </p:grpSpPr>
        <p:pic>
          <p:nvPicPr>
            <p:cNvPr id="88" name="Picture 16" descr="HEAL1002_NLC_H_Logo_RGB.png"/>
            <p:cNvPicPr/>
            <p:nvPr/>
          </p:nvPicPr>
          <p:blipFill>
            <a:blip r:embed="rId4"/>
            <a:stretch/>
          </p:blipFill>
          <p:spPr>
            <a:xfrm>
              <a:off x="6172200" y="6019920"/>
              <a:ext cx="2222640" cy="318240"/>
            </a:xfrm>
            <a:prstGeom prst="rect">
              <a:avLst/>
            </a:prstGeom>
            <a:ln w="0">
              <a:noFill/>
            </a:ln>
          </p:spPr>
        </p:pic>
        <p:sp>
          <p:nvSpPr>
            <p:cNvPr id="89" name="TextBox 19"/>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9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92" name="PlaceHolder 3"/>
          <p:cNvSpPr>
            <a:spLocks noGrp="1"/>
          </p:cNvSpPr>
          <p:nvPr>
            <p:ph type="sldNum" idx="2"/>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36AE-714A-4D4F-BAB1-4EBC94984BD1}"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 descr="nlc_bkgd2.png"/>
          <p:cNvPicPr/>
          <p:nvPr/>
        </p:nvPicPr>
        <p:blipFill>
          <a:blip r:embed="rId2"/>
          <a:stretch/>
        </p:blipFill>
        <p:spPr>
          <a:xfrm>
            <a:off x="0" y="0"/>
            <a:ext cx="9144000" cy="3992400"/>
          </a:xfrm>
          <a:prstGeom prst="rect">
            <a:avLst/>
          </a:prstGeom>
          <a:ln w="0">
            <a:noFill/>
          </a:ln>
        </p:spPr>
      </p:pic>
      <p:pic>
        <p:nvPicPr>
          <p:cNvPr id="13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13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132" name="Group 10"/>
          <p:cNvGrpSpPr/>
          <p:nvPr/>
        </p:nvGrpSpPr>
        <p:grpSpPr>
          <a:xfrm>
            <a:off x="6172200" y="6019920"/>
            <a:ext cx="2222640" cy="457200"/>
            <a:chOff x="6172200" y="6019920"/>
            <a:chExt cx="2222640" cy="457200"/>
          </a:xfrm>
        </p:grpSpPr>
        <p:pic>
          <p:nvPicPr>
            <p:cNvPr id="133" name="Picture 11" descr="HEAL1002_NLC_H_Logo_RGB.png"/>
            <p:cNvPicPr/>
            <p:nvPr/>
          </p:nvPicPr>
          <p:blipFill>
            <a:blip r:embed="rId4"/>
            <a:stretch/>
          </p:blipFill>
          <p:spPr>
            <a:xfrm>
              <a:off x="6172200" y="6019920"/>
              <a:ext cx="2222640" cy="318240"/>
            </a:xfrm>
            <a:prstGeom prst="rect">
              <a:avLst/>
            </a:prstGeom>
            <a:ln w="0">
              <a:noFill/>
            </a:ln>
          </p:spPr>
        </p:pic>
        <p:sp>
          <p:nvSpPr>
            <p:cNvPr id="134" name="TextBox 12"/>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13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137" name="PlaceHolder 3"/>
          <p:cNvSpPr>
            <a:spLocks noGrp="1"/>
          </p:cNvSpPr>
          <p:nvPr>
            <p:ph type="sldNum" idx="3"/>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C272-5B02-4D5B-91FF-C99B7799034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3" descr="nlc_bkgd2.png"/>
          <p:cNvPicPr/>
          <p:nvPr/>
        </p:nvPicPr>
        <p:blipFill>
          <a:blip r:embed="rId2"/>
          <a:stretch/>
        </p:blipFill>
        <p:spPr>
          <a:xfrm>
            <a:off x="0" y="0"/>
            <a:ext cx="9144000" cy="3992400"/>
          </a:xfrm>
          <a:prstGeom prst="rect">
            <a:avLst/>
          </a:prstGeom>
          <a:ln w="0">
            <a:noFill/>
          </a:ln>
        </p:spPr>
      </p:pic>
      <p:pic>
        <p:nvPicPr>
          <p:cNvPr id="17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17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177" name="Group 8"/>
          <p:cNvGrpSpPr/>
          <p:nvPr/>
        </p:nvGrpSpPr>
        <p:grpSpPr>
          <a:xfrm>
            <a:off x="6172200" y="6019920"/>
            <a:ext cx="2222640" cy="457200"/>
            <a:chOff x="6172200" y="6019920"/>
            <a:chExt cx="2222640" cy="457200"/>
          </a:xfrm>
        </p:grpSpPr>
        <p:pic>
          <p:nvPicPr>
            <p:cNvPr id="178" name="Picture 10" descr="HEAL1002_NLC_H_Logo_RGB.png"/>
            <p:cNvPicPr/>
            <p:nvPr/>
          </p:nvPicPr>
          <p:blipFill>
            <a:blip r:embed="rId4"/>
            <a:stretch/>
          </p:blipFill>
          <p:spPr>
            <a:xfrm>
              <a:off x="6172200" y="6019920"/>
              <a:ext cx="2222640" cy="318240"/>
            </a:xfrm>
            <a:prstGeom prst="rect">
              <a:avLst/>
            </a:prstGeom>
            <a:ln w="0">
              <a:noFill/>
            </a:ln>
          </p:spPr>
        </p:pic>
        <p:sp>
          <p:nvSpPr>
            <p:cNvPr id="179" name="TextBox 11"/>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18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182" name="PlaceHolder 3"/>
          <p:cNvSpPr>
            <a:spLocks noGrp="1"/>
          </p:cNvSpPr>
          <p:nvPr>
            <p:ph type="sldNum" idx="4"/>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67DE-059C-4D6A-9C8E-2E2B4F0D32EA}"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3" descr="nlc_bkgd2.png"/>
          <p:cNvPicPr/>
          <p:nvPr/>
        </p:nvPicPr>
        <p:blipFill>
          <a:blip r:embed="rId2"/>
          <a:stretch/>
        </p:blipFill>
        <p:spPr>
          <a:xfrm>
            <a:off x="0" y="0"/>
            <a:ext cx="9144000" cy="3992400"/>
          </a:xfrm>
          <a:prstGeom prst="rect">
            <a:avLst/>
          </a:prstGeom>
          <a:ln w="0">
            <a:noFill/>
          </a:ln>
        </p:spPr>
      </p:pic>
      <p:pic>
        <p:nvPicPr>
          <p:cNvPr id="22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2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222" name="Group 13"/>
          <p:cNvGrpSpPr/>
          <p:nvPr/>
        </p:nvGrpSpPr>
        <p:grpSpPr>
          <a:xfrm>
            <a:off x="6172200" y="6019920"/>
            <a:ext cx="2222640" cy="457200"/>
            <a:chOff x="6172200" y="6019920"/>
            <a:chExt cx="2222640" cy="457200"/>
          </a:xfrm>
        </p:grpSpPr>
        <p:pic>
          <p:nvPicPr>
            <p:cNvPr id="223" name="Picture 14" descr="HEAL1002_NLC_H_Logo_RGB.png"/>
            <p:cNvPicPr/>
            <p:nvPr/>
          </p:nvPicPr>
          <p:blipFill>
            <a:blip r:embed="rId4"/>
            <a:stretch/>
          </p:blipFill>
          <p:spPr>
            <a:xfrm>
              <a:off x="6172200" y="6019920"/>
              <a:ext cx="2222640" cy="318240"/>
            </a:xfrm>
            <a:prstGeom prst="rect">
              <a:avLst/>
            </a:prstGeom>
            <a:ln w="0">
              <a:noFill/>
            </a:ln>
          </p:spPr>
        </p:pic>
        <p:sp>
          <p:nvSpPr>
            <p:cNvPr id="224" name="TextBox 15"/>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22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227" name="PlaceHolder 3"/>
          <p:cNvSpPr>
            <a:spLocks noGrp="1"/>
          </p:cNvSpPr>
          <p:nvPr>
            <p:ph type="sldNum" idx="5"/>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5149-99D4-4936-A506-1B66128AAF58}"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3" descr="nlc_bkgd2.png"/>
          <p:cNvPicPr/>
          <p:nvPr/>
        </p:nvPicPr>
        <p:blipFill>
          <a:blip r:embed="rId2"/>
          <a:stretch/>
        </p:blipFill>
        <p:spPr>
          <a:xfrm>
            <a:off x="0" y="0"/>
            <a:ext cx="9144000" cy="3992400"/>
          </a:xfrm>
          <a:prstGeom prst="rect">
            <a:avLst/>
          </a:prstGeom>
          <a:ln w="0">
            <a:noFill/>
          </a:ln>
        </p:spPr>
      </p:pic>
      <p:pic>
        <p:nvPicPr>
          <p:cNvPr id="26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6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267" name="Group 10"/>
          <p:cNvGrpSpPr/>
          <p:nvPr/>
        </p:nvGrpSpPr>
        <p:grpSpPr>
          <a:xfrm>
            <a:off x="6172200" y="6019920"/>
            <a:ext cx="2222640" cy="457200"/>
            <a:chOff x="6172200" y="6019920"/>
            <a:chExt cx="2222640" cy="457200"/>
          </a:xfrm>
        </p:grpSpPr>
        <p:pic>
          <p:nvPicPr>
            <p:cNvPr id="268" name="Picture 11" descr="HEAL1002_NLC_H_Logo_RGB.png"/>
            <p:cNvPicPr/>
            <p:nvPr/>
          </p:nvPicPr>
          <p:blipFill>
            <a:blip r:embed="rId4"/>
            <a:stretch/>
          </p:blipFill>
          <p:spPr>
            <a:xfrm>
              <a:off x="6172200" y="6019920"/>
              <a:ext cx="2222640" cy="318240"/>
            </a:xfrm>
            <a:prstGeom prst="rect">
              <a:avLst/>
            </a:prstGeom>
            <a:ln w="0">
              <a:noFill/>
            </a:ln>
          </p:spPr>
        </p:pic>
        <p:sp>
          <p:nvSpPr>
            <p:cNvPr id="269" name="TextBox 12"/>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27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272" name="PlaceHolder 3"/>
          <p:cNvSpPr>
            <a:spLocks noGrp="1"/>
          </p:cNvSpPr>
          <p:nvPr>
            <p:ph type="sldNum" idx="6"/>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57E1-04B2-4AD5-B694-AC00F8095818}"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3" descr="nlc_bkgd2.png"/>
          <p:cNvPicPr/>
          <p:nvPr/>
        </p:nvPicPr>
        <p:blipFill>
          <a:blip r:embed="rId2"/>
          <a:stretch/>
        </p:blipFill>
        <p:spPr>
          <a:xfrm>
            <a:off x="0" y="0"/>
            <a:ext cx="9144000" cy="3992400"/>
          </a:xfrm>
          <a:prstGeom prst="rect">
            <a:avLst/>
          </a:prstGeom>
          <a:ln w="0">
            <a:noFill/>
          </a:ln>
        </p:spPr>
      </p:pic>
      <p:pic>
        <p:nvPicPr>
          <p:cNvPr id="31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31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312" name="Group 8"/>
          <p:cNvGrpSpPr/>
          <p:nvPr/>
        </p:nvGrpSpPr>
        <p:grpSpPr>
          <a:xfrm>
            <a:off x="6172200" y="6019920"/>
            <a:ext cx="2222640" cy="457200"/>
            <a:chOff x="6172200" y="6019920"/>
            <a:chExt cx="2222640" cy="457200"/>
          </a:xfrm>
        </p:grpSpPr>
        <p:pic>
          <p:nvPicPr>
            <p:cNvPr id="313" name="Picture 9" descr="HEAL1002_NLC_H_Logo_RGB.png"/>
            <p:cNvPicPr/>
            <p:nvPr/>
          </p:nvPicPr>
          <p:blipFill>
            <a:blip r:embed="rId4"/>
            <a:stretch/>
          </p:blipFill>
          <p:spPr>
            <a:xfrm>
              <a:off x="6172200" y="6019920"/>
              <a:ext cx="2222640" cy="318240"/>
            </a:xfrm>
            <a:prstGeom prst="rect">
              <a:avLst/>
            </a:prstGeom>
            <a:ln w="0">
              <a:noFill/>
            </a:ln>
          </p:spPr>
        </p:pic>
        <p:sp>
          <p:nvSpPr>
            <p:cNvPr id="314" name="TextBox 10"/>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1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317" name="PlaceHolder 3"/>
          <p:cNvSpPr>
            <a:spLocks noGrp="1"/>
          </p:cNvSpPr>
          <p:nvPr>
            <p:ph type="sldNum" idx="7"/>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2ADB-D531-42C2-8814-BEABC030B1E7}"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nlc_bkgd2.png"/>
          <p:cNvPicPr/>
          <p:nvPr/>
        </p:nvPicPr>
        <p:blipFill>
          <a:blip r:embed="rId2"/>
          <a:stretch/>
        </p:blipFill>
        <p:spPr>
          <a:xfrm>
            <a:off x="0" y="0"/>
            <a:ext cx="9144000" cy="3992400"/>
          </a:xfrm>
          <a:prstGeom prst="rect">
            <a:avLst/>
          </a:prstGeom>
          <a:ln w="0">
            <a:noFill/>
          </a:ln>
        </p:spPr>
      </p:pic>
      <p:pic>
        <p:nvPicPr>
          <p:cNvPr id="35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35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357" name="Group 12"/>
          <p:cNvGrpSpPr/>
          <p:nvPr/>
        </p:nvGrpSpPr>
        <p:grpSpPr>
          <a:xfrm>
            <a:off x="6172200" y="6019920"/>
            <a:ext cx="2222640" cy="457200"/>
            <a:chOff x="6172200" y="6019920"/>
            <a:chExt cx="2222640" cy="457200"/>
          </a:xfrm>
        </p:grpSpPr>
        <p:pic>
          <p:nvPicPr>
            <p:cNvPr id="358" name="Picture 13" descr="HEAL1002_NLC_H_Logo_RGB.png"/>
            <p:cNvPicPr/>
            <p:nvPr/>
          </p:nvPicPr>
          <p:blipFill>
            <a:blip r:embed="rId4"/>
            <a:stretch/>
          </p:blipFill>
          <p:spPr>
            <a:xfrm>
              <a:off x="6172200" y="6019920"/>
              <a:ext cx="2222640" cy="318240"/>
            </a:xfrm>
            <a:prstGeom prst="rect">
              <a:avLst/>
            </a:prstGeom>
            <a:ln w="0">
              <a:noFill/>
            </a:ln>
          </p:spPr>
        </p:pic>
        <p:sp>
          <p:nvSpPr>
            <p:cNvPr id="359" name="TextBox 14"/>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6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6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362" name="PlaceHolder 3"/>
          <p:cNvSpPr>
            <a:spLocks noGrp="1"/>
          </p:cNvSpPr>
          <p:nvPr>
            <p:ph type="sldNum" idx="8"/>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7EB2-706F-49A1-9368-B2A5EFB8B7B8}"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ealthit.gov/providers-professionals/regional-extension-centers-recs" TargetMode="External"/><Relationship Id="rId2" Type="http://schemas.openxmlformats.org/officeDocument/2006/relationships/hyperlink" Target="http://www.healthit.gov/providers-professionals/beacon-community-centers" TargetMode="External"/><Relationship Id="rId3" Type="http://schemas.openxmlformats.org/officeDocument/2006/relationships/hyperlink" Target="http://www.healthit.gov/providers-professionals/state-health-information-exchange" TargetMode="External"/><Relationship Id="rId4" Type="http://schemas.openxmlformats.org/officeDocument/2006/relationships/hyperlink" Target="http://healthit.hhs.gov/portal/server.pt/community/healthit_hhs_gov__rec_program/1495" TargetMode="External"/><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285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Workflow Redesign Templates</a:t>
            </a:r>
            <a:endParaRPr b="1" lang="en-US" sz="3600" spc="-1" strike="noStrike">
              <a:solidFill>
                <a:srgbClr val="005ca7"/>
              </a:solidFill>
              <a:latin typeface="Arial"/>
            </a:endParaRPr>
          </a:p>
        </p:txBody>
      </p:sp>
      <p:sp>
        <p:nvSpPr>
          <p:cNvPr id="452" name="PlaceHolder 2"/>
          <p:cNvSpPr>
            <a:spLocks noGrp="1"/>
          </p:cNvSpPr>
          <p:nvPr>
            <p:ph type="subTitle"/>
          </p:nvPr>
        </p:nvSpPr>
        <p:spPr>
          <a:xfrm>
            <a:off x="380520" y="3047760"/>
            <a:ext cx="7086600" cy="1447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Provided By:</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The National Learning Consortium (NLC)</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Developed By:</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Health Information Technology Research Center (HITRC) </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Practice and Workflow Redesign Community of Practice</a:t>
            </a: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rocess:</a:t>
            </a:r>
            <a:br>
              <a:rPr sz="3200"/>
            </a:br>
            <a:r>
              <a:rPr b="1" lang="en-US" sz="3200" spc="-1" strike="noStrike">
                <a:solidFill>
                  <a:srgbClr val="005ca7"/>
                </a:solidFill>
                <a:latin typeface="Arial"/>
              </a:rPr>
              <a:t>EHR is Fully Integrated/Interfaced with </a:t>
            </a:r>
            <a:br>
              <a:rPr sz="3200"/>
            </a:br>
            <a:r>
              <a:rPr b="1" lang="en-US" sz="3200" spc="-1" strike="noStrike">
                <a:solidFill>
                  <a:srgbClr val="005ca7"/>
                </a:solidFill>
                <a:latin typeface="Arial"/>
              </a:rPr>
              <a:t>Practice Management System (PMS)</a:t>
            </a:r>
            <a:br>
              <a:rPr sz="3200"/>
            </a:br>
            <a:endParaRPr b="1" lang="en-US" sz="3200" spc="-1" strike="noStrike">
              <a:solidFill>
                <a:srgbClr val="005ca7"/>
              </a:solidFill>
              <a:latin typeface="Arial"/>
            </a:endParaRPr>
          </a:p>
        </p:txBody>
      </p:sp>
      <p:pic>
        <p:nvPicPr>
          <p:cNvPr id="480" name="Object 19" descr="Description: This template outlines the check-in process for a practice that uses a single system for its check-in process and does not have separate E H R and PMS systems for managing patients.  This template may be more useful when mapping out how the desired patient check-in process after implementing the E H R. &#10;• A patient arrives and signs in at the front desk. Once the patient arrival is marked into the E H R, there is a decision point on whether or not this is a new patient.&#10;• If this is a new patient, patient forms are filled out and a copy of the insurance card scanned. Once the forms are completed, the information is entered into the E H R. &#10;• If this is not a new patient, the patient is selected from the  E H R and there is a decision point on whether or not the patient information needs to be updated.&#10;• If the patient information does need to be updated, updates are recorded into the E H R and the insurance card is scanned if needed (M U Objective: Record Patient Demographics as Structured Data).&#10;• If the patient information does not need to be collected then there is a decision point for whether or not a co-pay needs to be collected. This decision point applies for both new and existing patients.&#10;• If a co-pay needs to be collected, the payment is received, recorded into the E H R, and the patient is marked as ‘ready’ for rooming within the E H R.&#10;• If a co-pay does not need to be collected then the patient is marked as ‘ready’ for rooming within the E H R.&#10;"/>
          <p:cNvPicPr/>
          <p:nvPr/>
        </p:nvPicPr>
        <p:blipFill>
          <a:blip r:embed="rId1"/>
          <a:stretch/>
        </p:blipFill>
        <p:spPr>
          <a:xfrm>
            <a:off x="1622520" y="1523880"/>
            <a:ext cx="5844960" cy="4496040"/>
          </a:xfrm>
          <a:prstGeom prst="rect">
            <a:avLst/>
          </a:prstGeom>
          <a:ln w="0">
            <a:noFill/>
          </a:ln>
        </p:spPr>
      </p:pic>
      <p:sp>
        <p:nvSpPr>
          <p:cNvPr id="48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8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3823-3EE6-435A-96C8-F7AF95E17353}"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a:t>
            </a:r>
            <a:endParaRPr b="1" lang="en-US" sz="3200" spc="-1" strike="noStrike">
              <a:solidFill>
                <a:srgbClr val="005ca7"/>
              </a:solidFill>
              <a:latin typeface="Arial"/>
            </a:endParaRPr>
          </a:p>
        </p:txBody>
      </p:sp>
      <p:sp>
        <p:nvSpPr>
          <p:cNvPr id="484"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covers the office visit workflow.  It should help you and your practice staff detail what happens when a patient enters your practice for an appointment and what should happen once the EHR is implemented.  This interactive template contains:</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atient arrival at the office and checks in through the encounter close out in the EHR;</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nursing, support and provider staff roles interacts with the patient and EHR;</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asurement and entry of vital signs, medication updates, and patient complaint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atient examination; and, </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the EHR supports decision making and prescribing (see e-Prescribing section for more information and instructions on mapping e-Prescribing workflows).  </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8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1AFF-5FF1-4E0D-8361-458B7E18246D}"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 continued</a:t>
            </a:r>
            <a:endParaRPr b="1" lang="en-US" sz="3200" spc="-1" strike="noStrike">
              <a:solidFill>
                <a:srgbClr val="005ca7"/>
              </a:solidFill>
              <a:latin typeface="Arial"/>
            </a:endParaRPr>
          </a:p>
        </p:txBody>
      </p:sp>
      <p:sp>
        <p:nvSpPr>
          <p:cNvPr id="487"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RATIONALE/PURPOSE OF THE SECTION:  </a:t>
            </a:r>
            <a:r>
              <a:rPr b="0" lang="en-US" sz="1800" spc="-1" strike="noStrike">
                <a:solidFill>
                  <a:srgbClr val="404040"/>
                </a:solidFill>
                <a:latin typeface="Arial"/>
              </a:rPr>
              <a:t>As office visits are the primary activity of most practices, It is essential to navigating the patient as efficiently as possible through a typical office visit. Research has shown that an EHR can increase patient volume between 2 and 15% (Keshajvee 2001; MedicaLogic),  In addition, the data collected will enable time savings associated with quality reporting as well as conduct population health activities.  Integrating an EHR into that office visit can also improve the quality of care and patient safety by offering electronic triggers to remind staff about patient considerations (e.g., allergies, pre-existing conditions) and to prevent drug interactions (see e-Prescribing workflows for more details).  </a:t>
            </a:r>
            <a:endParaRPr b="0" lang="en-US" sz="18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9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MEANINGFUL USE OBJECTIVES</a:t>
            </a:r>
            <a:r>
              <a:rPr b="1" lang="en-US" sz="1400" spc="-1" strike="noStrike">
                <a:solidFill>
                  <a:srgbClr val="404040"/>
                </a:solidFill>
                <a:latin typeface="Arial"/>
              </a:rPr>
              <a:t>: </a:t>
            </a:r>
            <a:endParaRPr b="0" lang="en-US" sz="14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3 - maintain an up-to-date problem list of current and active diagnosis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5 - Maintain active medication list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6 - Maintain active medication allergy list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8 - Record and chart changes in vital signs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9 - Record smoking status for patients 13 yrs or older</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11- Implement one CDS rule </a:t>
            </a:r>
            <a:endParaRPr b="0" lang="en-US" sz="1600" spc="-1" strike="noStrike">
              <a:solidFill>
                <a:srgbClr val="404040"/>
              </a:solidFill>
              <a:latin typeface="Arial"/>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p:txBody>
      </p:sp>
      <p:sp>
        <p:nvSpPr>
          <p:cNvPr id="48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C0A5-0BAD-40B7-81A1-7521310FEAE9}"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 Workflow Template</a:t>
            </a:r>
            <a:br>
              <a:rPr sz="2900"/>
            </a:br>
            <a:endParaRPr b="1" lang="en-US" sz="3200" spc="-1" strike="noStrike">
              <a:solidFill>
                <a:srgbClr val="005ca7"/>
              </a:solidFill>
              <a:latin typeface="Arial"/>
            </a:endParaRPr>
          </a:p>
        </p:txBody>
      </p:sp>
      <p:pic>
        <p:nvPicPr>
          <p:cNvPr id="490" name="Object 19" descr="Description: This section covers the office visit workflow.  It should help you and your practice staff detail what happens when a patient enters your practice for an appointment and what should happen once the E H R is implemented.&#10;• A patient arrives and checks in. The nurse or support staff then views the E H R schedule, marks the patient ‘arrived’ status, greets the patient and escorts them to the clinic area.&#10;• The nurse or support staff then obtains the patient’s weight, height, blood pressure, temperature, etc., escorts the patient to the exam room and logs into the E H R.&#10;• The patient’s electronic record is selected and opened and the patient’s vitals and chief compliant are captured (M U Objective: Record and chart changes in vital signs). At this time, allergies and current medications are also verified (M U Objective: Maintain active medication and medication allergy list).&#10;• Additional patient history information is recorded such as the past medical, social, family, substance (smoking history), etc. (M U Objective: Record smoking status of patient 13 years old or older), and the nurse or support staff then secures the workstation and leaves the room.&#10;• A provider performs a chart review before entering the exam room and upon entering, greets the patient and logs onto the workstation.&#10;• The provider then consults with the patient, records HPI, and performs a physical exam. They then document the review of systems and the physical exam into the E H R and update the problem list and triggers CDS rules if needed (M U Objective: Maintain problem list of current and active diagnoses &amp; implement relevant CDS rules).&#10;• The provider places orders as necessary (see Orders workflow), assigns the level of service and provides the patient with instructions/materials.&#10;• The provider then closes the encounter in the E H R.&#10;"/>
          <p:cNvPicPr/>
          <p:nvPr/>
        </p:nvPicPr>
        <p:blipFill>
          <a:blip r:embed="rId1"/>
          <a:stretch/>
        </p:blipFill>
        <p:spPr>
          <a:xfrm>
            <a:off x="1336680" y="1047600"/>
            <a:ext cx="6512040" cy="5007240"/>
          </a:xfrm>
          <a:prstGeom prst="rect">
            <a:avLst/>
          </a:prstGeom>
          <a:ln w="0">
            <a:noFill/>
          </a:ln>
        </p:spPr>
      </p:pic>
      <p:sp>
        <p:nvSpPr>
          <p:cNvPr id="49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9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7006-999D-4574-9B15-535CC17D05F8}"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a:t>
            </a:r>
            <a:endParaRPr b="1" lang="en-US" sz="3200" spc="-1" strike="noStrike">
              <a:solidFill>
                <a:srgbClr val="005ca7"/>
              </a:solidFill>
              <a:latin typeface="Arial"/>
            </a:endParaRPr>
          </a:p>
        </p:txBody>
      </p:sp>
      <p:sp>
        <p:nvSpPr>
          <p:cNvPr id="494"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e-prescribing workflow, both during an office visit and out of an office visit for renewal requests  These interactive templates focus on what steps need to be taken to:</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opulate an EHR with the current medications and existing medication allergies for the patient;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Enter an order in the EHR, including updating medication history, checking drug formulary data (if enabled), and selecting the medication;</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ransmit the prescription order to the pharmacy, which may be manual (by the patient), fax/e-fax, or electronically (e.g., through the e-Prescribing networks available);</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rocess the prescription at the pharmacy; and,</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ick up by the patient</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9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063B-D360-40B8-ABFF-F1D756427A4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e-Prescribing, continued</a:t>
            </a:r>
            <a:br>
              <a:rPr sz="2900"/>
            </a:br>
            <a:endParaRPr b="1" lang="en-US" sz="2900" spc="-1" strike="noStrike">
              <a:solidFill>
                <a:srgbClr val="005ca7"/>
              </a:solidFill>
              <a:latin typeface="Arial"/>
            </a:endParaRPr>
          </a:p>
        </p:txBody>
      </p:sp>
      <p:sp>
        <p:nvSpPr>
          <p:cNvPr id="497" name=""/>
          <p:cNvSpPr txBox="1"/>
          <p:nvPr/>
        </p:nvSpPr>
        <p:spPr>
          <a:xfrm>
            <a:off x="457200" y="1294920"/>
            <a:ext cx="8229600" cy="4800600"/>
          </a:xfrm>
          <a:prstGeom prst="rect">
            <a:avLst/>
          </a:prstGeom>
          <a:noFill/>
          <a:ln w="0">
            <a:noFill/>
          </a:ln>
        </p:spPr>
        <p:txBody>
          <a:bodyPr anchor="t">
            <a:normAutofit/>
          </a:bodyPr>
          <a:p>
            <a:pPr marL="343080" indent="-34308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ATIONALE/PURPOSE OF THE SECTION:  </a:t>
            </a:r>
            <a:r>
              <a:rPr b="0" lang="en-US" sz="1600" spc="-1" strike="noStrike">
                <a:solidFill>
                  <a:srgbClr val="404040"/>
                </a:solidFill>
                <a:latin typeface="Arial"/>
              </a:rPr>
              <a:t>E-prescribing represents an opportunity to greatly streamline practices in the office.  Research has shown that there are significant time savings from processing prescription renewals, with 80 to 95% reductions in renewal times that average 18 minutes (Corley 2005, MedicaLogic).  It presents an opportunity to remove the chart pulls and office worker handling of the renewals, sending requests directly to a prescribing provider who can access the patient’s medical history and select a previously prescribed medicine.  There are also safety benefits that need to be considered, as adverse drug events, including drug-drug and drug-allergy interactions, can be reduced by 23-34% (Smith 2006, Wang 2003).  In addition, drug-formulary checks can help save patients 15-20% on their prescription drug costs (Wang 2003, MedicaLogic).  It is therefore important that the person entering the medication order into the e-prescribing system be able to process any alerts properly or that an alert processing steps are streamline to mitigate their impact on workflow.</a:t>
            </a:r>
            <a:endParaRPr b="0" lang="en-US" sz="1600" spc="-1" strike="noStrike">
              <a:solidFill>
                <a:srgbClr val="404040"/>
              </a:solidFill>
              <a:latin typeface="Arial"/>
            </a:endParaRPr>
          </a:p>
          <a:p>
            <a:pPr marL="343080" indent="-343080">
              <a:lnSpc>
                <a:spcPct val="80000"/>
              </a:lnSpc>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Arial"/>
            </a:endParaRPr>
          </a:p>
          <a:p>
            <a:pPr marL="343080" indent="-34308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MEANINGFUL USE OBJECTIVES: </a:t>
            </a:r>
            <a:endParaRPr b="0" lang="en-US" sz="16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1 - Use CPOE for medication orders</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2 - Implement drug-drug and drug allergy checks</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4 - Generate and transmit permissible prescriptions electronically (eRx)</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5 - Maintain active medication list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6 - Maintain active medication allergy list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1 - Implement drug-formulary checks</a:t>
            </a:r>
            <a:endParaRPr b="0" lang="en-US" sz="1500" spc="-1" strike="noStrike">
              <a:solidFill>
                <a:srgbClr val="404040"/>
              </a:solidFill>
              <a:latin typeface="Arial"/>
            </a:endParaRPr>
          </a:p>
          <a:p>
            <a:pPr marL="343080" indent="-343080">
              <a:lnSpc>
                <a:spcPct val="9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
        <p:nvSpPr>
          <p:cNvPr id="49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B4E3-AD58-4DAC-9DA7-F820B830B446}"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 Workflow Template:</a:t>
            </a:r>
            <a:br>
              <a:rPr sz="3200"/>
            </a:br>
            <a:r>
              <a:rPr b="1" lang="en-US" sz="3200" spc="-1" strike="noStrike">
                <a:solidFill>
                  <a:srgbClr val="005ca7"/>
                </a:solidFill>
                <a:latin typeface="Arial"/>
              </a:rPr>
              <a:t>During Office Visit</a:t>
            </a:r>
            <a:br>
              <a:rPr sz="3200"/>
            </a:br>
            <a:endParaRPr b="1" lang="en-US" sz="3200" spc="-1" strike="noStrike">
              <a:solidFill>
                <a:srgbClr val="005ca7"/>
              </a:solidFill>
              <a:latin typeface="Arial"/>
            </a:endParaRPr>
          </a:p>
        </p:txBody>
      </p:sp>
      <p:pic>
        <p:nvPicPr>
          <p:cNvPr id="500" name="Object 19" descr="Description:  This section will help practice staff map out the e-prescribing workflow during an office visit. &#10;• The patient arrives and the clerk or the nurse interviews the patient for Rx details of current medications and allergies as well as pharmacy information.&#10;• The prescriber sees patient and identifies need for Rx(s), reviews and updates Rx History and allergy list (M U objective: Maintain active medication and allergy lists), and verifies patient pharmacy information. Once all of this information is obtained, there is a decision point as to whether or not this is a new or existing prescription.&#10;• If it is an existing prescription, the prescriber selects, updates and orders the Rx(s) (M U objective: Use Computerized Physician Order Entry, CPOE).&#10;• If it is a new prescription, the prescriber selects Rx(s), checks for alerts, and orders the Rx(s) (M U objective: Implement drug-drug, drug-allergy, drug-formulary checks). There is then a decision point as to whether or not the Rx can be e-Prescribed.&#10;• If the Rx(s) cannot be e-Prescribed, the prescriber prints, faxes, or calls in the Rx(s). When necessary, the patient will drop off the Rx(s) at pharmacy.&#10;• If the Rx(s) can be e-Prescribed, the e-Prescribing network checks the patient’s Rx benefit information (M U objective: implement drug-formulary checks), and the Rx is transmitted. This step is applicable for both new and existing prescriptions.&#10;• The pharmacy receives the transmitted, faxed, called in or printed Rx, fills the Rx, notifies the patient that the Rx is ready for pickup and the patient picks up the Rx.&#10;&#10;"/>
          <p:cNvPicPr/>
          <p:nvPr/>
        </p:nvPicPr>
        <p:blipFill>
          <a:blip r:embed="rId1"/>
          <a:stretch/>
        </p:blipFill>
        <p:spPr>
          <a:xfrm>
            <a:off x="1565280" y="1246320"/>
            <a:ext cx="6207120" cy="4773600"/>
          </a:xfrm>
          <a:prstGeom prst="rect">
            <a:avLst/>
          </a:prstGeom>
          <a:ln w="0">
            <a:noFill/>
          </a:ln>
        </p:spPr>
      </p:pic>
      <p:sp>
        <p:nvSpPr>
          <p:cNvPr id="50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0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A3B1-DFC5-45B5-B7A5-C7C2396086C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 Workflow Template:</a:t>
            </a:r>
            <a:br>
              <a:rPr sz="3200"/>
            </a:br>
            <a:r>
              <a:rPr b="1" lang="en-US" sz="3200" spc="-1" strike="noStrike">
                <a:solidFill>
                  <a:srgbClr val="005ca7"/>
                </a:solidFill>
                <a:latin typeface="Arial"/>
              </a:rPr>
              <a:t>Medication Refill</a:t>
            </a:r>
            <a:br>
              <a:rPr sz="3200"/>
            </a:br>
            <a:endParaRPr b="1" lang="en-US" sz="3200" spc="-1" strike="noStrike">
              <a:solidFill>
                <a:srgbClr val="005ca7"/>
              </a:solidFill>
              <a:latin typeface="Arial"/>
            </a:endParaRPr>
          </a:p>
        </p:txBody>
      </p:sp>
      <p:pic>
        <p:nvPicPr>
          <p:cNvPr id="504" name="Object 19" descr="Description:  This section will help practice staff map out the e-prescribing workflow when a patient requests a medication refill.  &#10;• The patient requests a refill. The clerk or the Nurse interviews the patient for Rx detail of current medications and allergies, asks the patient for pharmacy information, and sends request to the prescriber. The pharmacy may also transmit an Rx refill request to the prescriber.&#10;• The prescriber receives the Rx refill request, reviews/updates Rx History and allergy list (M U objective: Maintain active medication and allergy lists), and verifies patient pharmacy information. There is then a decision point as to whether this is a new or existing prescription.&#10;• If this is an existing prescription, the prescriber selects the Rx, updates the record and orders.  (M U objective: Use Computerized Physician Order Entry, CPOE), and the Rx is transmitted.&#10;• If this is a new prescription, the prescriber selects Rx(s), checks for alerts, and orders the Rx(s) (M U objective: Implement drug-drug, drug-allergy, drug-formulary checks). There is then a decision point as to whether or not the Rx can be e-Prescribed.&#10;• If the Rx(s) cannot be e-Prescribed, the prescriber prints, faxes, or calls in the Rx(s). When necessary, the patient will drop off the Rx(s) at pharmacy.&#10;• If the Rx(s) can be e-Prescribed, the e-Prescribing network checks the patient’s Rx benefit information (M U objective: implement drug-formulary checks), and the Rx is transmitted. &#10;• The pharmacy receives the transmitted, faxed, called in or printed Rx, fills the Rx, notifies the patient that the Rx is ready for pickup and the patient picks up the Rx.&#10;"/>
          <p:cNvPicPr/>
          <p:nvPr/>
        </p:nvPicPr>
        <p:blipFill>
          <a:blip r:embed="rId1"/>
          <a:stretch/>
        </p:blipFill>
        <p:spPr>
          <a:xfrm>
            <a:off x="1447920" y="1219320"/>
            <a:ext cx="6248160" cy="4805280"/>
          </a:xfrm>
          <a:prstGeom prst="rect">
            <a:avLst/>
          </a:prstGeom>
          <a:ln w="0">
            <a:noFill/>
          </a:ln>
        </p:spPr>
      </p:pic>
      <p:sp>
        <p:nvSpPr>
          <p:cNvPr id="505" name="Rectangle 4"/>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0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42F1-8825-4A5F-A780-E8AC63C33B4E}"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Appointment Scheduling</a:t>
            </a:r>
            <a:endParaRPr b="1" lang="en-US" sz="3200" spc="-1" strike="noStrike">
              <a:solidFill>
                <a:srgbClr val="005ca7"/>
              </a:solidFill>
              <a:latin typeface="Arial"/>
            </a:endParaRPr>
          </a:p>
        </p:txBody>
      </p:sp>
      <p:sp>
        <p:nvSpPr>
          <p:cNvPr id="50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0ADC-064C-40CE-8089-AA728FAD3AB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09" name=""/>
          <p:cNvSpPr txBox="1"/>
          <p:nvPr/>
        </p:nvSpPr>
        <p:spPr>
          <a:xfrm>
            <a:off x="457200" y="1447560"/>
            <a:ext cx="8229600" cy="472428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appointment scheduling process during an office visit. This section covers:</a:t>
            </a:r>
            <a:endParaRPr b="0" lang="en-US" sz="19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ding the patient in the EHR;</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reating a new patient record (if applicable);</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lecting a reason for an appointment;</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ding a time for the appointment; and,</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alizing with the patient.  </a:t>
            </a:r>
            <a:endParaRPr b="0" lang="en-US" sz="1800" spc="-1" strike="noStrike">
              <a:solidFill>
                <a:srgbClr val="404040"/>
              </a:solidFill>
              <a:latin typeface="Arial"/>
            </a:endParaRPr>
          </a:p>
          <a:p>
            <a:pPr lvl="1" marL="743040" indent="-285840">
              <a:lnSpc>
                <a:spcPct val="9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RATIONALE/PURPOSE OF THE SECTION:  </a:t>
            </a:r>
            <a:r>
              <a:rPr b="0" lang="en-US" sz="1800" spc="-1" strike="noStrike">
                <a:solidFill>
                  <a:srgbClr val="404040"/>
                </a:solidFill>
                <a:latin typeface="Arial"/>
              </a:rPr>
              <a:t>Appointment scheduling is likely to vary depending on the communication method (i.e., phone call, post-visit, or email).  In addition, interfacing between the practice management system and the EHR will vary depending on the vendor products installed at the practice.  It is important to ensure a proper process is in place to sync these two systems.</a:t>
            </a:r>
            <a:endParaRPr b="0" lang="en-US" sz="1800" spc="-1" strike="noStrike">
              <a:solidFill>
                <a:srgbClr val="404040"/>
              </a:solidFill>
              <a:latin typeface="Arial"/>
            </a:endParaRPr>
          </a:p>
          <a:p>
            <a:pPr marL="343080" indent="-343080">
              <a:lnSpc>
                <a:spcPct val="7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a:p>
            <a:pPr marL="343080" indent="-343080">
              <a:lnSpc>
                <a:spcPct val="7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MEANINGFUL USE OBJECTIVES: </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re are none that apply with the current stage of Meaningful Use criteria</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Appointment Scheduling Workflow </a:t>
            </a:r>
            <a:br>
              <a:rPr sz="3200"/>
            </a:br>
            <a:r>
              <a:rPr b="1" lang="en-US" sz="3200" spc="-1" strike="noStrike">
                <a:solidFill>
                  <a:srgbClr val="005ca7"/>
                </a:solidFill>
                <a:latin typeface="Arial"/>
              </a:rPr>
              <a:t>Template</a:t>
            </a:r>
            <a:br>
              <a:rPr sz="3200"/>
            </a:br>
            <a:endParaRPr b="1" lang="en-US" sz="3200" spc="-1" strike="noStrike">
              <a:solidFill>
                <a:srgbClr val="005ca7"/>
              </a:solidFill>
              <a:latin typeface="Arial"/>
            </a:endParaRPr>
          </a:p>
        </p:txBody>
      </p:sp>
      <p:pic>
        <p:nvPicPr>
          <p:cNvPr id="511" name="Object 19" descr="Description: This section will help practice staff map out the appointment scheduling process during an office visit.&#10;• A patient needs an appointment.&#10;• Once the clerk or provider notifies the scheduler, there is a decision point on whether or not this is a new patient. &#10;• If this is a new patient, a new record is created in the system and the patient information is entered into this record.&#10;• If this is not a new patient, the scheduler searches for the patient in the system (MRN, Name, D O B, etc.).&#10;• Once the patient is selected or entered into the system as new, a provider is then selected and their appointment schedule is opened&#10;• A reason or type of appointment is selected, a search is performed for specific date or next available appointment, and the appointment spot is selected and saved.&#10;• The schedule then summarizes the appointment verbally or gives an appointment card and the appointment is considered scheduled."/>
          <p:cNvPicPr/>
          <p:nvPr/>
        </p:nvPicPr>
        <p:blipFill>
          <a:blip r:embed="rId1"/>
          <a:stretch/>
        </p:blipFill>
        <p:spPr>
          <a:xfrm>
            <a:off x="1523880" y="1295280"/>
            <a:ext cx="6143760" cy="4724640"/>
          </a:xfrm>
          <a:prstGeom prst="rect">
            <a:avLst/>
          </a:prstGeom>
          <a:ln w="0">
            <a:noFill/>
          </a:ln>
        </p:spPr>
      </p:pic>
      <p:sp>
        <p:nvSpPr>
          <p:cNvPr id="512"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1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180E-A572-49F7-8DF2-34E636AB52A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National Learning Consortium</a:t>
            </a:r>
            <a:endParaRPr b="1" lang="en-US" sz="3200" spc="-1" strike="noStrike">
              <a:solidFill>
                <a:srgbClr val="005ca7"/>
              </a:solidFill>
              <a:latin typeface="Arial"/>
            </a:endParaRPr>
          </a:p>
        </p:txBody>
      </p:sp>
      <p:sp>
        <p:nvSpPr>
          <p:cNvPr id="454" name=""/>
          <p:cNvSpPr txBox="1"/>
          <p:nvPr/>
        </p:nvSpPr>
        <p:spPr>
          <a:xfrm>
            <a:off x="457200" y="1447920"/>
            <a:ext cx="8229600" cy="4038480"/>
          </a:xfrm>
          <a:prstGeom prst="rect">
            <a:avLst/>
          </a:prstGeom>
          <a:noFill/>
          <a:ln w="0">
            <a:noFill/>
          </a:ln>
        </p:spPr>
        <p:txBody>
          <a:bodyPr anchor="t">
            <a:normAutofit/>
          </a:bodyPr>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National Learning Consortium (NLC) is a virtual and evolving body of knowledge and tools  designed to support healthcare providers and health IT professionals  working towards the implementation, adoption and meaningful use of certified EHR system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NLC represents the collective EHR implementation experiences and knowledge gained directly from the field of  ONC’s outreach programs (</a:t>
            </a:r>
            <a:r>
              <a:rPr b="0" lang="en-US" sz="1800" spc="-1" strike="noStrike" u="sng">
                <a:solidFill>
                  <a:srgbClr val="0000ff"/>
                </a:solidFill>
                <a:uFillTx/>
                <a:latin typeface="Arial"/>
                <a:hlinkClick r:id="rId1"/>
              </a:rPr>
              <a:t>REC</a:t>
            </a:r>
            <a:r>
              <a:rPr b="0" lang="en-US" sz="1800" spc="-1" strike="noStrike">
                <a:solidFill>
                  <a:srgbClr val="404040"/>
                </a:solidFill>
                <a:latin typeface="Arial"/>
              </a:rPr>
              <a:t>, </a:t>
            </a:r>
            <a:r>
              <a:rPr b="0" lang="en-US" sz="1800" spc="-1" strike="noStrike" u="sng">
                <a:solidFill>
                  <a:srgbClr val="0000ff"/>
                </a:solidFill>
                <a:uFillTx/>
                <a:latin typeface="Arial"/>
                <a:hlinkClick r:id="rId2"/>
              </a:rPr>
              <a:t>Beacon</a:t>
            </a:r>
            <a:r>
              <a:rPr b="0" lang="en-US" sz="1800" spc="-1" strike="noStrike">
                <a:solidFill>
                  <a:srgbClr val="404040"/>
                </a:solidFill>
                <a:latin typeface="Arial"/>
              </a:rPr>
              <a:t>, </a:t>
            </a:r>
            <a:r>
              <a:rPr b="0" lang="en-US" sz="1800" spc="-1" strike="noStrike" u="sng">
                <a:solidFill>
                  <a:srgbClr val="0000ff"/>
                </a:solidFill>
                <a:uFillTx/>
                <a:latin typeface="Arial"/>
                <a:hlinkClick r:id="rId3"/>
              </a:rPr>
              <a:t>State HIE</a:t>
            </a:r>
            <a:r>
              <a:rPr b="0" lang="en-US" sz="1800" spc="-1" strike="noStrike">
                <a:solidFill>
                  <a:srgbClr val="404040"/>
                </a:solidFill>
                <a:latin typeface="Arial"/>
              </a:rPr>
              <a:t>) and through the </a:t>
            </a:r>
            <a:r>
              <a:rPr b="0" lang="en-US" sz="1800" spc="-1" strike="noStrike" u="sng">
                <a:solidFill>
                  <a:srgbClr val="0000ff"/>
                </a:solidFill>
                <a:uFillTx/>
                <a:latin typeface="Arial"/>
                <a:hlinkClick r:id="rId4"/>
              </a:rPr>
              <a:t>Health Information Technology Research Center (HITRC)</a:t>
            </a:r>
            <a:r>
              <a:rPr b="0" lang="en-US" sz="1800" spc="-1" strike="noStrike">
                <a:solidFill>
                  <a:srgbClr val="404040"/>
                </a:solidFill>
                <a:latin typeface="Arial"/>
              </a:rPr>
              <a:t> Communities of Practice (CoP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following resource is a tool used in the field today and recommended by “boots-on-the-ground” professionals for use by others who have made the commitment to implement or upgrade to certified EHR system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9406-1DC3-4C82-A194-FCAB68DD533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Orders</a:t>
            </a:r>
            <a:endParaRPr b="1" lang="en-US" sz="3200" spc="-1" strike="noStrike">
              <a:solidFill>
                <a:srgbClr val="005ca7"/>
              </a:solidFill>
              <a:latin typeface="Arial"/>
            </a:endParaRPr>
          </a:p>
        </p:txBody>
      </p:sp>
      <p:sp>
        <p:nvSpPr>
          <p:cNvPr id="51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257B-8CF6-4D09-86F0-AC90E2ED842B}"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16"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laboratory ordering process during an office visit.    This section covers three different workflows</a:t>
            </a:r>
            <a:r>
              <a:rPr b="1" lang="en-US" sz="1900" spc="-1" strike="noStrike">
                <a:solidFill>
                  <a:srgbClr val="404040"/>
                </a:solidFill>
                <a:latin typeface="Arial"/>
              </a:rPr>
              <a:t>:</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Ordering in the Office:</a:t>
            </a:r>
            <a:r>
              <a:rPr b="0" lang="en-US" sz="1800" spc="-1" strike="noStrike">
                <a:solidFill>
                  <a:srgbClr val="404040"/>
                </a:solidFill>
                <a:latin typeface="Arial"/>
              </a:rPr>
              <a:t> This workflow focuses on what happens to laboratory tests under two different scenarios: 1) the laboratory test is conducted during the office visit; or 2) the patient leaves the office visit with a laboratory test order.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Results:</a:t>
            </a:r>
            <a:r>
              <a:rPr b="0" lang="en-US" sz="1800" spc="-1" strike="noStrike">
                <a:solidFill>
                  <a:srgbClr val="404040"/>
                </a:solidFill>
                <a:latin typeface="Arial"/>
              </a:rPr>
              <a:t> This workflow captures handling of the laboratory results receipt and entry into the EH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Orders and Results Management:</a:t>
            </a:r>
            <a:r>
              <a:rPr b="0" lang="en-US" sz="1800" spc="-1" strike="noStrike">
                <a:solidFill>
                  <a:srgbClr val="404040"/>
                </a:solidFill>
                <a:latin typeface="Arial"/>
              </a:rPr>
              <a:t>  This workflow focuses on what happens to the results of laboratory orders under three different scenarios: 1) the office staff generate a list of orders; 2) the patient calls the office for results; or 3) the provider receives the results from the laboratory.  </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Laboratory Orders, continued</a:t>
            </a:r>
            <a:br>
              <a:rPr sz="2900"/>
            </a:br>
            <a:endParaRPr b="1" lang="en-US" sz="2900" spc="-1" strike="noStrike">
              <a:solidFill>
                <a:srgbClr val="005ca7"/>
              </a:solidFill>
              <a:latin typeface="Arial"/>
            </a:endParaRPr>
          </a:p>
        </p:txBody>
      </p:sp>
      <p:sp>
        <p:nvSpPr>
          <p:cNvPr id="51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2719-93CF-4E18-BE9A-3E2F9BC4FA4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19" name=""/>
          <p:cNvSpPr txBox="1"/>
          <p:nvPr/>
        </p:nvSpPr>
        <p:spPr>
          <a:xfrm>
            <a:off x="457200" y="1371600"/>
            <a:ext cx="8229600" cy="4495680"/>
          </a:xfrm>
          <a:prstGeom prst="rect">
            <a:avLst/>
          </a:prstGeom>
          <a:noFill/>
          <a:ln w="0">
            <a:noFill/>
          </a:ln>
        </p:spPr>
        <p:txBody>
          <a:bodyPr anchor="t">
            <a:normAutofit/>
          </a:bodyPr>
          <a:p>
            <a:pPr marL="343080" indent="-34308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ATIONALE/PURPOSE OF THE SECTION:  </a:t>
            </a:r>
            <a:r>
              <a:rPr b="0" lang="en-US" sz="1600" spc="-1" strike="noStrike">
                <a:solidFill>
                  <a:srgbClr val="404040"/>
                </a:solidFill>
                <a:latin typeface="Arial"/>
              </a:rPr>
              <a:t>Laboratory tests are critical component of patient care.  Office staff are responsible for ensuring that both the test and the results are completed communicated to the patient and the provider in a timely fashion. Before transitioning to an EHR with electronic laboratory ordering features, mapping out the existing workflow for ordering laboratory tests and tracking the results will help the office staff to identify how the workflow needs to be adapted to accommodate the forthcoming EHR. The office staff responsible for laboratory orders, in collaboration with the implementation team, should imagine each of the steps involved in ordering laboratory tests, tracking their status, and obtaining the results and communicating those results to the patient and provider. An EHR can improve the efficiency and timeliness of laboratory orders by eliminating paper documentation, integrating an current freestanding database with the EHR, or simply eliminating redundancies.  Research has shown that between 4 and 23% of lab costs are for redundant testing (Wang 2003, Girosi 2005, Garrido 2005), the majority of which could be avoided by recording the results electronically and sharing that data with other providers.</a:t>
            </a:r>
            <a:endParaRPr b="0" lang="en-US" sz="1600" spc="-1" strike="noStrike">
              <a:solidFill>
                <a:srgbClr val="404040"/>
              </a:solidFill>
              <a:latin typeface="Arial"/>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Arial"/>
            </a:endParaRPr>
          </a:p>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MEANINGFUL USE OBJECTIVES: </a:t>
            </a:r>
            <a:endParaRPr b="0" lang="en-US" sz="16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11 - Implement one CDS rule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2 - Incorporate clinical lab-test results into EHR as structured data</a:t>
            </a:r>
            <a:endParaRPr b="0" lang="en-US" sz="1500" spc="-1" strike="noStrike">
              <a:solidFill>
                <a:srgbClr val="404040"/>
              </a:solidFill>
              <a:latin typeface="Arial"/>
            </a:endParaRPr>
          </a:p>
          <a:p>
            <a:pPr marL="343080" indent="-34308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Order Workflow Template:</a:t>
            </a:r>
            <a:br>
              <a:rPr sz="3200"/>
            </a:br>
            <a:r>
              <a:rPr b="1" lang="en-US" sz="3200" spc="-1" strike="noStrike">
                <a:solidFill>
                  <a:srgbClr val="005ca7"/>
                </a:solidFill>
                <a:latin typeface="Arial"/>
              </a:rPr>
              <a:t>During Office Visit</a:t>
            </a:r>
            <a:br>
              <a:rPr sz="3200"/>
            </a:br>
            <a:endParaRPr b="1" lang="en-US" sz="3200" spc="-1" strike="noStrike">
              <a:solidFill>
                <a:srgbClr val="005ca7"/>
              </a:solidFill>
              <a:latin typeface="Arial"/>
            </a:endParaRPr>
          </a:p>
        </p:txBody>
      </p:sp>
      <p:pic>
        <p:nvPicPr>
          <p:cNvPr id="521" name="Object 20" descr="Description: This workflow focuses on what happens to laboratory tests under two different scenarios: 1) the laboratory test is conducted during the office visit; or 2) the patient leaves the office visit with a laboratory test order.  Meaningful Use Objective is noted in the flow chart.&#10;• The patient arrives, has an office visit with Provider, and there is a decision point as to whether or not tests are needed.  &#10;• If tests are not needed, the patient leaves with no labs drawn.&#10;• If tests are needed, the Provider will order the test with appropriate diagnostic code(s). (M U objective: Implement CDS Rules). There is then a decision point as to whether or not this is a point of care test.&#10;• If it is not a point of care test, the patient leaves with lab test order. There is a decision point as to whether or not a specimen will be collected.&#10;• If a specimen is not collected, then the laboratory notifies the provider.&#10;• If a specimen is collected or if this is a point of care test, there is a decision point as to whether or not a test is performed.&#10;• If a test is not performed, the laboratory notifies the provider.&#10;• If a test is performed, the test results are generated and sent to provider (see lab results workflow)&#10;"/>
          <p:cNvPicPr/>
          <p:nvPr/>
        </p:nvPicPr>
        <p:blipFill>
          <a:blip r:embed="rId1"/>
          <a:stretch/>
        </p:blipFill>
        <p:spPr>
          <a:xfrm>
            <a:off x="1555920" y="1295280"/>
            <a:ext cx="6137280" cy="4724640"/>
          </a:xfrm>
          <a:prstGeom prst="rect">
            <a:avLst/>
          </a:prstGeom>
          <a:ln w="0">
            <a:noFill/>
          </a:ln>
        </p:spPr>
      </p:pic>
      <p:sp>
        <p:nvSpPr>
          <p:cNvPr id="522"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2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CADE-44C4-43DC-BB23-C1504C034B4B}"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Results Workflow</a:t>
            </a:r>
            <a:br>
              <a:rPr sz="2900"/>
            </a:br>
            <a:endParaRPr b="1" lang="en-US" sz="3200" spc="-1" strike="noStrike">
              <a:solidFill>
                <a:srgbClr val="005ca7"/>
              </a:solidFill>
              <a:latin typeface="Arial"/>
            </a:endParaRPr>
          </a:p>
        </p:txBody>
      </p:sp>
      <p:pic>
        <p:nvPicPr>
          <p:cNvPr id="525" name="Object 19" descr="Description: This workflow captures how the practice handles receipt of the laboratory results and entry of lab results into the E H R. Meaningful Use objectives are noted.&#10;• The M A or Clerk receives Lab result (M U Objective: Incorporate clinical lab test results into certified E H R technology as structured data). There is then a decision point as to whether or not these are critical lab values.&#10;• If they are critical lab values, the M A or Clerk alerts the provider immediately for the provider to take action&#10;• If they are not critical lab values, the M A or Clerk route the results to the ordering provider and once the provider receives the results they take action as necessary.&#10;• Once a provider takes necessary action on both critical and non-critical lab values, the provider signs off on the lab results, and notifies the patients of the results. Patient receives notification of lab results (M U Objective: provide patient with electronic copy of their test results upon request.  Provide patient with timely electronic access to their lab results).&#10;"/>
          <p:cNvPicPr/>
          <p:nvPr/>
        </p:nvPicPr>
        <p:blipFill>
          <a:blip r:embed="rId1"/>
          <a:stretch/>
        </p:blipFill>
        <p:spPr>
          <a:xfrm>
            <a:off x="1371600" y="1066680"/>
            <a:ext cx="6440400" cy="4953240"/>
          </a:xfrm>
          <a:prstGeom prst="rect">
            <a:avLst/>
          </a:prstGeom>
          <a:ln w="0">
            <a:noFill/>
          </a:ln>
        </p:spPr>
      </p:pic>
      <p:sp>
        <p:nvSpPr>
          <p:cNvPr id="526"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27"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D7E0-5735-4D19-80B4-65D169AE1A42}"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 Orders and Results Management</a:t>
            </a:r>
            <a:br>
              <a:rPr sz="3200"/>
            </a:br>
            <a:endParaRPr b="1" lang="en-US" sz="3200" spc="-1" strike="noStrike">
              <a:solidFill>
                <a:srgbClr val="005ca7"/>
              </a:solidFill>
              <a:latin typeface="Arial"/>
            </a:endParaRPr>
          </a:p>
        </p:txBody>
      </p:sp>
      <p:pic>
        <p:nvPicPr>
          <p:cNvPr id="529" name="Object 19" descr="Description: This workflow focuses on what happens to the results of laboratory orders under three different scenarios: 1) the office staff generate a list of orders; 2) the patient calls the office for results; or 3) the provider receives the results from the laboratory.  Meaningful Use Objectives are noted.&#10;&#10;1. The office staff generates a list of orders&#10;• The Nurse, MA or Clerk generates list of pending orders and there is a decision point as to whether or not tests are performed. If no tests are performed the nurse, MA or clerk sends a reminder or follow up with the patient. If tests are performed the workflow 3 is followed.&#10;&#10;2. Patient calls for lab results&#10;• The Nurse, M A or Clerk search for patient and lab results in E H R and there is a decision point as to whether or not the lab results are available. If lab results are available then a message is sent to the provider. The provider reviews and signs off on lab results and notifies patient. If lab results are not available, there is a decision point to determine if tests have been performed. If no tests are performed the nurse, MA or clerk sends a reminder or follow up with the patient. If tests are performed the workflow 3 is followed.&#10;&#10;3. The provider receives the results from the laboratory&#10;• If tests are performed, then the laboratory generates test results and sends to provider. The provider receives lab results (M U Objective: Incorporate clinical lab test results into certified E H R technology as structured data), signs off on lab results, and notifies patient of lab results if needed (M U Objective: Provide patient with electronic copy of their test results upon request. Provide patient with timely electronic access to their lab results).&#10;"/>
          <p:cNvPicPr/>
          <p:nvPr/>
        </p:nvPicPr>
        <p:blipFill>
          <a:blip r:embed="rId1"/>
          <a:stretch/>
        </p:blipFill>
        <p:spPr>
          <a:xfrm>
            <a:off x="1371600" y="1066680"/>
            <a:ext cx="6458040" cy="4967280"/>
          </a:xfrm>
          <a:prstGeom prst="rect">
            <a:avLst/>
          </a:prstGeom>
          <a:ln w="0">
            <a:noFill/>
          </a:ln>
        </p:spPr>
      </p:pic>
      <p:sp>
        <p:nvSpPr>
          <p:cNvPr id="530"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3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6A9A-BC31-4782-83BB-DCB5B0A4228B}"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Referral Generation</a:t>
            </a:r>
            <a:endParaRPr b="1" lang="en-US" sz="3200" spc="-1" strike="noStrike">
              <a:solidFill>
                <a:srgbClr val="005ca7"/>
              </a:solidFill>
              <a:latin typeface="Arial"/>
            </a:endParaRPr>
          </a:p>
        </p:txBody>
      </p:sp>
      <p:sp>
        <p:nvSpPr>
          <p:cNvPr id="53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C4C9-2D2B-4EBF-989C-A923B0CEA83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34"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referral generation process. This interactive template focuses on what steps need to be taken to:</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Generate a referral request by the provide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reate the referral order, including insurance checks and generation of necessary data from EH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nd the referral order to the referred provide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Visit with the referred physician and patients; and,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mmunicate results from the referred to the referring provider. </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Referral Generation, continued</a:t>
            </a:r>
            <a:br>
              <a:rPr sz="2900"/>
            </a:br>
            <a:endParaRPr b="1" lang="en-US" sz="2900" spc="-1" strike="noStrike">
              <a:solidFill>
                <a:srgbClr val="005ca7"/>
              </a:solidFill>
              <a:latin typeface="Arial"/>
            </a:endParaRPr>
          </a:p>
        </p:txBody>
      </p:sp>
      <p:sp>
        <p:nvSpPr>
          <p:cNvPr id="53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FC9B-8EC2-4975-AE8B-08024AF2278E}"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37" name=""/>
          <p:cNvSpPr txBox="1"/>
          <p:nvPr/>
        </p:nvSpPr>
        <p:spPr>
          <a:xfrm>
            <a:off x="457200" y="1447560"/>
            <a:ext cx="8229600" cy="4343400"/>
          </a:xfrm>
          <a:prstGeom prst="rect">
            <a:avLst/>
          </a:prstGeom>
          <a:noFill/>
          <a:ln w="0">
            <a:noFill/>
          </a:ln>
        </p:spPr>
        <p:txBody>
          <a:bodyPr anchor="t">
            <a:normAutofit/>
          </a:bodyPr>
          <a:p>
            <a:pPr marL="343080" indent="-343080">
              <a:lnSpc>
                <a:spcPct val="9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RATIONALE/PURPOSE OF THE SECTION:  </a:t>
            </a:r>
            <a:r>
              <a:rPr b="0" lang="en-US" sz="1700" spc="-1" strike="noStrike">
                <a:solidFill>
                  <a:srgbClr val="404040"/>
                </a:solidFill>
                <a:latin typeface="Arial"/>
              </a:rPr>
              <a:t>A major source of health care fragmentation, duplication and miscommunication is in the transition of care from one provider to another or the co-management of patient care among two or more providers. Office staff are responsible for ensuring that referrals are generated to both the patient and the specialist and that the status outcomes of those referrals or transitions are closely monitored and documented.  Before transitioning to an EHR with electronic laboratory ordering features, mapping out the existing workflow for transitions and will help the office staff to identify how the workflow needs to be adapted to accommodate the forthcoming EHR. Staff should identify how and where an EHR can improve the tracking and documentation of referrals by streamlining the point of entry, providing prompts or reminders, and allowing all who need the referral information ready access to it.  Research has shown that EHRs can save up to 210 hours per physician per year through use of electronic referral generation (MedicaLogic).</a:t>
            </a:r>
            <a:endParaRPr b="0" lang="en-US" sz="1700" spc="-1" strike="noStrike">
              <a:solidFill>
                <a:srgbClr val="40404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Arial"/>
            </a:endParaRPr>
          </a:p>
          <a:p>
            <a:pPr marL="343080" indent="-343080">
              <a:lnSpc>
                <a:spcPct val="8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MEANINGFUL USE OBJECTIVES: </a:t>
            </a:r>
            <a:endParaRPr b="0" lang="en-US" sz="17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8 - Provide a summary </a:t>
            </a:r>
            <a:r>
              <a:rPr b="0" i="1" lang="en-US" sz="1500" spc="-1" strike="noStrike">
                <a:solidFill>
                  <a:srgbClr val="404040"/>
                </a:solidFill>
                <a:latin typeface="Arial"/>
              </a:rPr>
              <a:t>of care record </a:t>
            </a:r>
            <a:r>
              <a:rPr b="0" lang="en-US" sz="1500" spc="-1" strike="noStrike">
                <a:solidFill>
                  <a:srgbClr val="404040"/>
                </a:solidFill>
                <a:latin typeface="Arial"/>
              </a:rPr>
              <a:t>for each transition of care or referral</a:t>
            </a:r>
            <a:endParaRPr b="0" lang="en-US" sz="1500" spc="-1" strike="noStrike">
              <a:solidFill>
                <a:srgbClr val="404040"/>
              </a:solidFill>
              <a:latin typeface="Arial"/>
            </a:endParaRPr>
          </a:p>
          <a:p>
            <a:pPr marL="343080" indent="-34308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Referral Generation Workflow Template</a:t>
            </a:r>
            <a:br>
              <a:rPr sz="3200"/>
            </a:br>
            <a:endParaRPr b="1" lang="en-US" sz="3200" spc="-1" strike="noStrike">
              <a:solidFill>
                <a:srgbClr val="005ca7"/>
              </a:solidFill>
              <a:latin typeface="Arial"/>
            </a:endParaRPr>
          </a:p>
        </p:txBody>
      </p:sp>
      <p:pic>
        <p:nvPicPr>
          <p:cNvPr id="539" name="Object 19" descr="Description: This section will help practice staff map out the referral generation process.&#10;• A PCP determines that a patient needs a referral and generates the referral order and encounter documentation.&#10;• An M A or Clerk receives the referral order and obtains insurance authorization if needed. The referral is then generated and given to the patient. A summary of Care document is also generated (M U Objective: Provide a summary of care record for each transition of care or referral) and the referral documentation is sent via eExchange, secure email, faxing, or printing to the specialty provider office.&#10;• The patient receives the referral from the M A or Clerk and contacts the specialty provider for an appointment.&#10;• The specialty provider office receives the referral documentation from the M A or Clerk and, in parallel, schedules an appointment with the patient. They provide specialty services to the patient, generate encounter documentation, and generate and send a Summary of Care document to the PCP.&#10;• The MA or Clerk receives the message from the specialty provider, and routes the specialty documentation to the PCP.&#10;• The PCP then receives the Summary of Care document from the specialty provider.&#10;"/>
          <p:cNvPicPr/>
          <p:nvPr/>
        </p:nvPicPr>
        <p:blipFill>
          <a:blip r:embed="rId1"/>
          <a:stretch/>
        </p:blipFill>
        <p:spPr>
          <a:xfrm>
            <a:off x="1219320" y="990720"/>
            <a:ext cx="6538680" cy="5029200"/>
          </a:xfrm>
          <a:prstGeom prst="rect">
            <a:avLst/>
          </a:prstGeom>
          <a:ln w="0">
            <a:noFill/>
          </a:ln>
        </p:spPr>
      </p:pic>
      <p:sp>
        <p:nvSpPr>
          <p:cNvPr id="540"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4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3011-E8D2-4AAE-947A-2F5B3389D56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a:t>
            </a:r>
            <a:endParaRPr b="1" lang="en-US" sz="3200" spc="-1" strike="noStrike">
              <a:solidFill>
                <a:srgbClr val="005ca7"/>
              </a:solidFill>
              <a:latin typeface="Arial"/>
            </a:endParaRPr>
          </a:p>
        </p:txBody>
      </p:sp>
      <p:sp>
        <p:nvSpPr>
          <p:cNvPr id="54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3F8E-22C6-46CC-9302-34AFB15E931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44"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office visit discharge process, including steps that need to be taken post-visit to ensure the practice meets Stage 1 Meaningful Use criteria.  This interactive template focuses on what steps need to be taken to:</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mplete visit documentation;</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rovide the patient with all necessary orders and information, including electronic transmittal depending on the type of order;</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chedule any follow-up appointments; and, </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end any public health data to the necessary local, state, and/or federal agencies.</a:t>
            </a:r>
            <a:endParaRPr b="0" lang="en-US" sz="19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 continued</a:t>
            </a:r>
            <a:endParaRPr b="1" lang="en-US" sz="3200" spc="-1" strike="noStrike">
              <a:solidFill>
                <a:srgbClr val="005ca7"/>
              </a:solidFill>
              <a:latin typeface="Arial"/>
            </a:endParaRPr>
          </a:p>
        </p:txBody>
      </p:sp>
      <p:sp>
        <p:nvSpPr>
          <p:cNvPr id="54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25B9-A628-48C5-BB8E-E324D38AEC0F}"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47" name=""/>
          <p:cNvSpPr txBox="1"/>
          <p:nvPr/>
        </p:nvSpPr>
        <p:spPr>
          <a:xfrm>
            <a:off x="457200" y="1447920"/>
            <a:ext cx="8229600" cy="4419360"/>
          </a:xfrm>
          <a:prstGeom prst="rect">
            <a:avLst/>
          </a:prstGeom>
          <a:noFill/>
          <a:ln w="0">
            <a:noFill/>
          </a:ln>
        </p:spPr>
        <p:txBody>
          <a:bodyPr anchor="t">
            <a:normAutofit/>
          </a:bodyPr>
          <a:p>
            <a:pPr marL="343080" indent="-343080">
              <a:lnSpc>
                <a:spcPct val="9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RATIONALE/PURPOSE OF THE SECTION:  </a:t>
            </a:r>
            <a:r>
              <a:rPr b="0" lang="en-US" sz="1700" spc="-1" strike="noStrike">
                <a:solidFill>
                  <a:srgbClr val="404040"/>
                </a:solidFill>
                <a:latin typeface="Arial"/>
              </a:rPr>
              <a:t>The office visit discharge largely encompasses those activities that provider patients with any data or orders that are ready when they are leaving.  By the Stage 1 Meaningful Use criteria, clinical summaries (Core 13) are  required within a specified time and are not necessarily part of the discharge process.  Care transition summaries (Menu 8), which will be required by Stage 2 criteria, do not have a time requirement, and may be transmitted at any time prior to the patient’s first appointment with the new provider (likely when the referral order is completed).  In addition, submission of immunization data (Menu 9) or syndromic surveillance data (Menu 10), which are also to be required by Stage 2, do not require that data be transmitted at the duration of any appointment, or at any time at all; they are only required to test this capability to support future requirements in this arena.  It is important to note that majority of activities with this workflow can be conducted outside of a patient visit, along with other requirements of Stage 1 Meaningful Use.  As these are non-value-added activities (i.e., they don’t generate revenue per se), it is important to understand the time it takes to do these activities and how these processes can be streamlined with the adoption of an EHR.</a:t>
            </a:r>
            <a:endParaRPr b="0" lang="en-US" sz="1700" spc="-1" strike="noStrike">
              <a:solidFill>
                <a:srgbClr val="40404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Template Instructions:</a:t>
            </a:r>
            <a:br>
              <a:rPr sz="3200"/>
            </a:br>
            <a:r>
              <a:rPr b="1" lang="en-US" sz="3200" spc="-1" strike="noStrike">
                <a:solidFill>
                  <a:srgbClr val="005ca7"/>
                </a:solidFill>
                <a:latin typeface="Arial"/>
              </a:rPr>
              <a:t>Mapping an Existing Workflow</a:t>
            </a:r>
            <a:endParaRPr b="1" lang="en-US" sz="3200" spc="-1" strike="noStrike">
              <a:solidFill>
                <a:srgbClr val="005ca7"/>
              </a:solidFill>
              <a:latin typeface="Arial"/>
            </a:endParaRPr>
          </a:p>
        </p:txBody>
      </p:sp>
      <p:sp>
        <p:nvSpPr>
          <p:cNvPr id="457" name=""/>
          <p:cNvSpPr txBox="1"/>
          <p:nvPr/>
        </p:nvSpPr>
        <p:spPr>
          <a:xfrm>
            <a:off x="457200" y="1599840"/>
            <a:ext cx="8229600" cy="4343400"/>
          </a:xfrm>
          <a:prstGeom prst="rect">
            <a:avLst/>
          </a:prstGeom>
          <a:noFill/>
          <a:ln w="0">
            <a:noFill/>
          </a:ln>
        </p:spPr>
        <p:txBody>
          <a:bodyPr anchor="t">
            <a:normAutofit fontScale="96000"/>
          </a:bodyPr>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o use these templates, first identify the current type of workflow you want to redesign, and then identify the staff responsible for the activities in the workflow.</a:t>
            </a: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collaboration with the implementation team, they should review the workflow and adjust it as necessary to match the typical scenario in their office.</a:t>
            </a: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Assign a note taker/recorder to enter the steps into the boxes and arrows on the PowerPoint slide.  The note taker/recorder can move the PowerPoint boxes and arrows to reflect how the staff order the interactions.</a:t>
            </a:r>
            <a:endParaRPr b="0" lang="en-US" sz="1800" spc="-1" strike="noStrike">
              <a:solidFill>
                <a:srgbClr val="404040"/>
              </a:solidFill>
              <a:latin typeface="Arial"/>
            </a:endParaRPr>
          </a:p>
          <a:p>
            <a:pPr marL="329040" indent="-329040">
              <a:lnSpc>
                <a:spcPct val="6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the workflow templates, boxes indicate steps in the process.  Blue diamonds indicate “yes or no” decision points and lead to appropriate next steps depending on the “yes or no” decision.  Staff can indicate decision point steps by turning a sticky note sideways 45 degrees or by drawing a diamond on the box.  </a:t>
            </a:r>
            <a:endParaRPr b="0" lang="en-US" sz="1800" spc="-1" strike="noStrike">
              <a:solidFill>
                <a:srgbClr val="404040"/>
              </a:solidFill>
              <a:latin typeface="Arial"/>
            </a:endParaRPr>
          </a:p>
          <a:p>
            <a:pPr marL="329040" indent="-329040">
              <a:lnSpc>
                <a:spcPct val="80000"/>
              </a:lnSpc>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Arial"/>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Note:  Double-click workflow diagrams to make edits</a:t>
            </a:r>
            <a:endParaRPr b="0" lang="en-US" sz="1400" spc="-1" strike="noStrike">
              <a:solidFill>
                <a:srgbClr val="404040"/>
              </a:solidFill>
              <a:latin typeface="Arial"/>
            </a:endParaRPr>
          </a:p>
          <a:p>
            <a:pPr marL="329040" indent="-329040">
              <a:lnSpc>
                <a:spcPct val="8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p:txBody>
      </p:sp>
      <p:sp>
        <p:nvSpPr>
          <p:cNvPr id="45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3536-E867-415B-ACFF-F703E206045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Office Discharge, continued</a:t>
            </a:r>
            <a:br>
              <a:rPr sz="2900"/>
            </a:br>
            <a:endParaRPr b="1" lang="en-US" sz="2900" spc="-1" strike="noStrike">
              <a:solidFill>
                <a:srgbClr val="005ca7"/>
              </a:solidFill>
              <a:latin typeface="Arial"/>
            </a:endParaRPr>
          </a:p>
        </p:txBody>
      </p:sp>
      <p:sp>
        <p:nvSpPr>
          <p:cNvPr id="549"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CFF7-21DC-4D4C-855E-AFA3DD5C78DF}"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50"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MEANINGFUL USE OBJECTIVES: </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1 - Use CPOE for medication orders</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4 - Generate and transmit permissible prescriptions electronically (eRx)</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13 - Provide clinical summaries for each office visit</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8 - Provide a summary of care record for each transition of care or referral</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9 - Capability to submit electronic data to immunization registries or immunization information systems</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10 - Capability to submit electronic syndromic surveillance data to public health agencies</a:t>
            </a:r>
            <a:endParaRPr b="0" lang="en-US" sz="1800" spc="-1" strike="noStrike">
              <a:solidFill>
                <a:srgbClr val="40404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 Workflow Template</a:t>
            </a:r>
            <a:br>
              <a:rPr sz="2900"/>
            </a:br>
            <a:endParaRPr b="1" lang="en-US" sz="3200" spc="-1" strike="noStrike">
              <a:solidFill>
                <a:srgbClr val="005ca7"/>
              </a:solidFill>
              <a:latin typeface="Arial"/>
            </a:endParaRPr>
          </a:p>
        </p:txBody>
      </p:sp>
      <p:pic>
        <p:nvPicPr>
          <p:cNvPr id="552" name="Object 19" descr="Description: This section will help practice staff map out the office visit discharge process, including steps that need to be taken post-visit to ensure the practice meets Stage 1 Meaningful Use criteria.  &#10;• A patient exits the exam room and a provider completes the encounter documentation.&#10;• A nurse, M A, or Clerical staff reviews the patient instructions and orders. They then print or send the orders to the appropriate recipients (M U Objectives: Use Computerized Physician Order Entry (CPOE) and Generate and transmit permissible ePrescriptions) and, if needed, submit data to immunization registry, public health agencies, quality measures to CMS or States, etc (M U Objectives: Capability to submit electronic data to immunization registries or immunization information systems and Capability to submit electronic syndromic surveillance data to public health agencies)&#10;• A follow up appointment is then scheduled if needed and summary of care document is printed or sent if needed (M U Objective: Provide clinical summaries for each office visit and Provide a summary of care record for each transition of care or referral).&#10;• The patient receives the orders, instructions, follow-up appointment and exits the office.&#10;"/>
          <p:cNvPicPr/>
          <p:nvPr/>
        </p:nvPicPr>
        <p:blipFill>
          <a:blip r:embed="rId1"/>
          <a:stretch/>
        </p:blipFill>
        <p:spPr>
          <a:xfrm>
            <a:off x="1219320" y="1035000"/>
            <a:ext cx="6481800" cy="4984920"/>
          </a:xfrm>
          <a:prstGeom prst="rect">
            <a:avLst/>
          </a:prstGeom>
          <a:ln w="0">
            <a:noFill/>
          </a:ln>
        </p:spPr>
      </p:pic>
      <p:sp>
        <p:nvSpPr>
          <p:cNvPr id="553"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5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C212-70DD-47A1-B784-7E7AC49ACF07}"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Template Instructions :</a:t>
            </a:r>
            <a:br>
              <a:rPr sz="3200"/>
            </a:br>
            <a:r>
              <a:rPr b="1" lang="en-US" sz="3200" spc="-1" strike="noStrike">
                <a:solidFill>
                  <a:srgbClr val="005ca7"/>
                </a:solidFill>
                <a:latin typeface="Arial"/>
              </a:rPr>
              <a:t>Examining Areas for Improvement</a:t>
            </a:r>
            <a:endParaRPr b="1" lang="en-US" sz="3200" spc="-1" strike="noStrike">
              <a:solidFill>
                <a:srgbClr val="005ca7"/>
              </a:solidFill>
              <a:latin typeface="Arial"/>
            </a:endParaRPr>
          </a:p>
        </p:txBody>
      </p:sp>
      <p:sp>
        <p:nvSpPr>
          <p:cNvPr id="46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fter mapping existing workflows, the staff should ask themselves the following questions:</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the best steps in the proces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makes those the best step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we doing right? (Best can be defined by practice goals and vision, such as efficiency, client satisfying, etc.)</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steps could use improvement? </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the least effective?</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makes those steps the least effective?</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could we improve those steps?</a:t>
            </a:r>
            <a:endParaRPr b="0" lang="en-US" sz="1800" spc="-1" strike="noStrike">
              <a:solidFill>
                <a:srgbClr val="40404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Use the answers to these questions to aid in planning a future workflow with the new EHR</a:t>
            </a:r>
            <a:endParaRPr b="0" lang="en-US" sz="19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sp>
        <p:nvSpPr>
          <p:cNvPr id="46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4E6D-0489-41B4-8C6D-98F1A75A5468}"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Key Steps to Optimize Workflow Redesign</a:t>
            </a:r>
            <a:endParaRPr b="1" lang="en-US" sz="3200" spc="-1" strike="noStrike">
              <a:solidFill>
                <a:srgbClr val="005ca7"/>
              </a:solidFill>
              <a:latin typeface="Arial"/>
            </a:endParaRPr>
          </a:p>
        </p:txBody>
      </p:sp>
      <p:sp>
        <p:nvSpPr>
          <p:cNvPr id="463"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nalyze current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Document the practice’s existing paper workflows in all areas of patient care</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licit clinician and staff input regarding roles in current paper workflows</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Involve everyone who handles paperwork in the analysis and redesign</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Review and finalize documentation of current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Ensure that the final diagram incorporates the entire “paper trail”</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Identify waste and opportunities; then redesign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Recognizing the steps that should be changed to improve office functionality; the redesign will reveal the practice’s needs regarding EHR system selection and training</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Identify and implement the EHR system and new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Enlist the necessary support and work with the right EHR vendor to implement a system that meets the practice’s needs; ensure proper EHR implementation through staff training on the new workflow</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nalyze new EHR workflow and refine as needed</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ntinue to monitor the EHR-driven workflow and adjust the workflow to optimize efficiencies</a:t>
            </a:r>
            <a:endParaRPr b="0" lang="en-US" sz="1500" spc="-1" strike="noStrike">
              <a:solidFill>
                <a:srgbClr val="404040"/>
              </a:solidFill>
              <a:latin typeface="Arial"/>
            </a:endParaRPr>
          </a:p>
          <a:p>
            <a:pPr marL="343080" indent="-343080">
              <a:lnSpc>
                <a:spcPct val="9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
        <p:nvSpPr>
          <p:cNvPr id="46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0DBD-2285-4FE9-B07A-7EFB64A7A1E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a:t>
            </a:r>
            <a:endParaRPr b="1" lang="en-US" sz="3200" spc="-1" strike="noStrike">
              <a:solidFill>
                <a:srgbClr val="005ca7"/>
              </a:solidFill>
              <a:latin typeface="Arial"/>
            </a:endParaRPr>
          </a:p>
        </p:txBody>
      </p:sp>
      <p:sp>
        <p:nvSpPr>
          <p:cNvPr id="466" name=""/>
          <p:cNvSpPr txBox="1"/>
          <p:nvPr/>
        </p:nvSpPr>
        <p:spPr>
          <a:xfrm>
            <a:off x="457200" y="1371600"/>
            <a:ext cx="8229600" cy="464832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patient check-in process; it provides several different templates that can describe the existing check-in process and the check-in process that might be achieved with an EHR.  These interactive templates focus on what happens once the patient enters the office until the patient meets with the physician or nursing staff.   </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Arial"/>
              </a:rPr>
              <a:t>	</a:t>
            </a:r>
            <a:r>
              <a:rPr b="0" lang="en-US" sz="1700" spc="-1" strike="noStrike">
                <a:solidFill>
                  <a:srgbClr val="404040"/>
                </a:solidFill>
                <a:latin typeface="Arial"/>
              </a:rPr>
              <a:t>Templates included in this section include the following</a:t>
            </a:r>
            <a:r>
              <a:rPr b="0" lang="en-US" sz="1400" spc="-1" strike="noStrike">
                <a:solidFill>
                  <a:srgbClr val="404040"/>
                </a:solidFill>
                <a:latin typeface="Arial"/>
              </a:rPr>
              <a:t>: </a:t>
            </a:r>
            <a:endParaRPr b="0" lang="en-US" sz="14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Paper Process</a:t>
            </a:r>
            <a:r>
              <a:rPr b="0" lang="en-US" sz="1600" spc="-1" strike="noStrike">
                <a:solidFill>
                  <a:srgbClr val="404040"/>
                </a:solidFill>
                <a:latin typeface="Arial"/>
              </a:rPr>
              <a:t>: The paper check-in template describes an office setting that relies solely on paper charts for patient documentation. This template will be useful for outlining the workflow of offices that currently do not have an EHR.</a:t>
            </a:r>
            <a:endParaRPr b="0" lang="en-US" sz="16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EHR without Integration/Interface with Practice Management System (PMS)</a:t>
            </a:r>
            <a:r>
              <a:rPr b="0" lang="en-US" sz="1600" spc="-1" strike="noStrike">
                <a:solidFill>
                  <a:srgbClr val="404040"/>
                </a:solidFill>
                <a:latin typeface="Arial"/>
              </a:rPr>
              <a:t>: This template provides a draft workflow for an office with a non-integrated EHR.  This template will be useful for offices that require front desk staff to enter patient documentation separately into the PMS and EHR. </a:t>
            </a:r>
            <a:endParaRPr b="0" lang="en-US" sz="16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EHR is Fully Integrated/Interfaced with Practice Management System (PMS)</a:t>
            </a:r>
            <a:r>
              <a:rPr b="0" lang="en-US" sz="1600" spc="-1" strike="noStrike">
                <a:solidFill>
                  <a:srgbClr val="404040"/>
                </a:solidFill>
                <a:latin typeface="Arial"/>
              </a:rPr>
              <a:t>:  This template outlines the check-in process for a practice that uses a single system for its check-in process and does not have separate EHR and PMS systems for managing patients.  This template may be more useful when mapping out how the desired patient check-in process after implementing the EHR. </a:t>
            </a:r>
            <a:endParaRPr b="0" lang="en-US" sz="1600" spc="-1" strike="noStrike">
              <a:solidFill>
                <a:srgbClr val="404040"/>
              </a:solidFill>
              <a:latin typeface="Arial"/>
            </a:endParaRPr>
          </a:p>
          <a:p>
            <a:pPr marL="343080" indent="-34308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p:txBody>
      </p:sp>
      <p:sp>
        <p:nvSpPr>
          <p:cNvPr id="467"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CA2A-8961-4005-9FD2-1EF9F692BDFB}"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continued</a:t>
            </a:r>
            <a:endParaRPr b="1" lang="en-US" sz="3200" spc="-1" strike="noStrike">
              <a:solidFill>
                <a:srgbClr val="005ca7"/>
              </a:solidFill>
              <a:latin typeface="Arial"/>
            </a:endParaRPr>
          </a:p>
        </p:txBody>
      </p:sp>
      <p:sp>
        <p:nvSpPr>
          <p:cNvPr id="469"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RATIONALE/PURPOSE OF THE SECTION:  </a:t>
            </a:r>
            <a:r>
              <a:rPr b="0" lang="en-US" sz="1900" spc="-1" strike="noStrike">
                <a:solidFill>
                  <a:srgbClr val="404040"/>
                </a:solidFill>
                <a:latin typeface="Arial"/>
              </a:rPr>
              <a:t>The front desk/reception staff play a critical role in the practice: they serve as the welcoming face of the practice, gather important patient history and updates and manage payment collection.  They do all of these things during the check-in process.  Before transitioning to a fully integrated EHR check-in process, mapping out the existing paper check-in or non-integrated EHR check-in process will help the front desk/reception staff to identify current workflows could be adapted to accommodate the forthcoming EHR. </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MEANINGFUL USE OBJECTIVES: </a:t>
            </a:r>
            <a:endParaRPr b="0" lang="en-US" sz="19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Use of the paper process does not meet any of the meaningful use requirements.  Use of a non-integrated EHR or an integrated EHR satisfies the meaningful use requirement: Core 7 - record patient demographics as structured data.</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0"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B551-DD34-440E-B063-17CF342D8125}"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aper Process</a:t>
            </a:r>
            <a:br>
              <a:rPr sz="2900"/>
            </a:br>
            <a:endParaRPr b="1" lang="en-US" sz="3200" spc="-1" strike="noStrike">
              <a:solidFill>
                <a:srgbClr val="005ca7"/>
              </a:solidFill>
              <a:latin typeface="Arial"/>
            </a:endParaRPr>
          </a:p>
        </p:txBody>
      </p:sp>
      <p:pic>
        <p:nvPicPr>
          <p:cNvPr id="472" name="Object 19" descr="Description: The paper check-in template describes an office setting that relies solely on paper charts for patient documentation. This template will be useful for outlining the workflow of offices that currently do not have an E H R.&#10;• A patient arrives and signs in at the front desk. Once the patient arrival is marked, there is a decision point on whether or not this is a new patient.&#10;• If this is a new patient, patient forms are filled out and a copy of the insurance card is made. With the completed forms a new chart is created.&#10;• If this is not a new patient, the existing paper chart is pulled from the staging area and there is a decision point on whether or not the patient information needs to be updated.&#10;• If the patient information does need to be updated, updates are recorded in the paper chart and if necessary, the insurance card is copied.&#10;• If the patient information does not need to be collected then there is a decision point for whether or not a co-pay needs to be collected. This decision point applies for both new and existing patients.&#10;• If a co-pay needs to be collected, the payment is received and recorded for the billing department. &#10;• If a co-pay does not need to be collected then a flowsheet is generated and both the patient chart and flowsheets are placed in a bin indicating the patient is ready for rooming.&#10;"/>
          <p:cNvPicPr/>
          <p:nvPr/>
        </p:nvPicPr>
        <p:blipFill>
          <a:blip r:embed="rId1"/>
          <a:stretch/>
        </p:blipFill>
        <p:spPr>
          <a:xfrm>
            <a:off x="1209600" y="993600"/>
            <a:ext cx="6639120" cy="5097600"/>
          </a:xfrm>
          <a:prstGeom prst="rect">
            <a:avLst/>
          </a:prstGeom>
          <a:ln w="0">
            <a:noFill/>
          </a:ln>
        </p:spPr>
      </p:pic>
      <p:sp>
        <p:nvSpPr>
          <p:cNvPr id="473"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7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09A1-5B45-4D43-84C4-33378BE6039E}"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456840"/>
            <a:ext cx="83818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rocess:</a:t>
            </a:r>
            <a:br>
              <a:rPr sz="3200"/>
            </a:br>
            <a:r>
              <a:rPr b="1" lang="en-US" sz="3200" spc="-1" strike="noStrike">
                <a:solidFill>
                  <a:srgbClr val="005ca7"/>
                </a:solidFill>
                <a:latin typeface="Arial"/>
              </a:rPr>
              <a:t>EHR without Integration/Interface with </a:t>
            </a:r>
            <a:br>
              <a:rPr sz="3200"/>
            </a:br>
            <a:r>
              <a:rPr b="1" lang="en-US" sz="3200" spc="-1" strike="noStrike">
                <a:solidFill>
                  <a:srgbClr val="005ca7"/>
                </a:solidFill>
                <a:latin typeface="Arial"/>
              </a:rPr>
              <a:t>Practice Management System (PMS)</a:t>
            </a:r>
            <a:br>
              <a:rPr sz="3200"/>
            </a:br>
            <a:endParaRPr b="1" lang="en-US" sz="3200" spc="-1" strike="noStrike">
              <a:solidFill>
                <a:srgbClr val="005ca7"/>
              </a:solidFill>
              <a:latin typeface="Arial"/>
            </a:endParaRPr>
          </a:p>
        </p:txBody>
      </p:sp>
      <p:pic>
        <p:nvPicPr>
          <p:cNvPr id="476" name="Object 19" descr="Description: This template provides a draft workflow for an office with a non-integrated E H R.  This template will be useful for offices that require front desk staff to enter patient documentation separately into the PMS and E H R. &#10;• A patient arrives and signs in at the front desk. Once the patient arrival is marked into the PMS and/or E H R, there is a decision point on whether or not this is a new patient.&#10;• If this is a new patient, patient forms are filled out and a copy of the insurance card is made or scanned. Once the forms are completed, the information is entered into the PMS and/or E H R. &#10;• If this is not a new patient, the patient is selected from the PMS and/or E H R and there is a decision point on whether or not the patient information needs to be updated.&#10;• If the patient information does need to be updated, updates are recorded into the PMS and/or E H R and the insurance card is copied if needed (M U Objective: Record Patient Demographics as Structured Data).&#10;• If the patient information does not need to be collected then there is a decision point for whether or not a co-pay needs to be collected. This decision point applies for both new and existing patients.&#10;• If a co-pay needs to be collected, the payment is received, recorded into the PMS, and the patient is marked as ‘ready’ for rooming within the PMS and/or E H R.&#10;• If a co-pay does not need to be collected then the patient is marked as ‘ready’ for rooming within the PMS and/or E H R&#10;"/>
          <p:cNvPicPr/>
          <p:nvPr/>
        </p:nvPicPr>
        <p:blipFill>
          <a:blip r:embed="rId1"/>
          <a:stretch/>
        </p:blipFill>
        <p:spPr>
          <a:xfrm>
            <a:off x="1598760" y="1523880"/>
            <a:ext cx="5945040" cy="4572000"/>
          </a:xfrm>
          <a:prstGeom prst="rect">
            <a:avLst/>
          </a:prstGeom>
          <a:ln w="0">
            <a:noFill/>
          </a:ln>
        </p:spPr>
      </p:pic>
      <p:sp>
        <p:nvSpPr>
          <p:cNvPr id="477"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7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9880-572B-490D-A33D-6293A4B14D4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5:12:41Z</dcterms:created>
  <dc:creator>DHHS Office of the National Coordinator for Health Information Technology</dc:creator>
  <dc:description/>
  <cp:keywords>ONC HIT</cp:keywords>
  <dc:language>en-US</dc:language>
  <cp:lastModifiedBy>Nathan Sprenger</cp:lastModifiedBy>
  <cp:lastPrinted>2011-10-17T15:48:51Z</cp:lastPrinted>
  <dcterms:modified xsi:type="dcterms:W3CDTF">2013-09-13T17:40:03Z</dcterms:modified>
  <cp:revision>139</cp:revision>
  <dc:subject>EHR  Meaningful Use</dc:subject>
  <dc:title>Workflow Redesign Templates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